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 id="270" r:id="rId54"/>
    <p:sldId id="271" r:id="rId55"/>
    <p:sldId id="272" r:id="rId56"/>
    <p:sldId id="273" r:id="rId57"/>
    <p:sldId id="274" r:id="rId58"/>
    <p:sldId id="275" r:id="rId59"/>
    <p:sldId id="276" r:id="rId60"/>
    <p:sldId id="277" r:id="rId61"/>
    <p:sldId id="278" r:id="rId62"/>
    <p:sldId id="279" r:id="rId63"/>
    <p:sldId id="280" r:id="rId64"/>
    <p:sldId id="281" r:id="rId65"/>
    <p:sldId id="282" r:id="rId66"/>
    <p:sldId id="283" r:id="rId67"/>
    <p:sldId id="284" r:id="rId68"/>
    <p:sldId id="285" r:id="rId69"/>
    <p:sldId id="286" r:id="rId70"/>
    <p:sldId id="287" r:id="rId71"/>
    <p:sldId id="288" r:id="rId72"/>
    <p:sldId id="289" r:id="rId73"/>
    <p:sldId id="290"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slide" Target="slides/slide15.xml"/><Relationship Id="rId55" Type="http://schemas.openxmlformats.org/officeDocument/2006/relationships/slide" Target="slides/slide16.xml"/><Relationship Id="rId56" Type="http://schemas.openxmlformats.org/officeDocument/2006/relationships/slide" Target="slides/slide17.xml"/><Relationship Id="rId57" Type="http://schemas.openxmlformats.org/officeDocument/2006/relationships/slide" Target="slides/slide18.xml"/><Relationship Id="rId58" Type="http://schemas.openxmlformats.org/officeDocument/2006/relationships/slide" Target="slides/slide19.xml"/><Relationship Id="rId59" Type="http://schemas.openxmlformats.org/officeDocument/2006/relationships/slide" Target="slides/slide20.xml"/><Relationship Id="rId60" Type="http://schemas.openxmlformats.org/officeDocument/2006/relationships/slide" Target="slides/slide21.xml"/><Relationship Id="rId61" Type="http://schemas.openxmlformats.org/officeDocument/2006/relationships/slide" Target="slides/slide22.xml"/><Relationship Id="rId62" Type="http://schemas.openxmlformats.org/officeDocument/2006/relationships/slide" Target="slides/slide23.xml"/><Relationship Id="rId63" Type="http://schemas.openxmlformats.org/officeDocument/2006/relationships/slide" Target="slides/slide24.xml"/><Relationship Id="rId64" Type="http://schemas.openxmlformats.org/officeDocument/2006/relationships/slide" Target="slides/slide25.xml"/><Relationship Id="rId65" Type="http://schemas.openxmlformats.org/officeDocument/2006/relationships/slide" Target="slides/slide26.xml"/><Relationship Id="rId66" Type="http://schemas.openxmlformats.org/officeDocument/2006/relationships/slide" Target="slides/slide27.xml"/><Relationship Id="rId67" Type="http://schemas.openxmlformats.org/officeDocument/2006/relationships/slide" Target="slides/slide28.xml"/><Relationship Id="rId68" Type="http://schemas.openxmlformats.org/officeDocument/2006/relationships/slide" Target="slides/slide29.xml"/><Relationship Id="rId69" Type="http://schemas.openxmlformats.org/officeDocument/2006/relationships/slide" Target="slides/slide30.xml"/><Relationship Id="rId70" Type="http://schemas.openxmlformats.org/officeDocument/2006/relationships/slide" Target="slides/slide31.xml"/><Relationship Id="rId71" Type="http://schemas.openxmlformats.org/officeDocument/2006/relationships/slide" Target="slides/slide32.xml"/><Relationship Id="rId72" Type="http://schemas.openxmlformats.org/officeDocument/2006/relationships/slide" Target="slides/slide33.xml"/><Relationship Id="rId73" Type="http://schemas.openxmlformats.org/officeDocument/2006/relationships/slide" Target="slides/slide34.xml"/><Relationship Id="rId74" Type="http://schemas.openxmlformats.org/officeDocument/2006/relationships/slide" Target="slides/slide35.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584"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85" name="PlaceHolder 2"/>
          <p:cNvSpPr>
            <a:spLocks noGrp="1"/>
          </p:cNvSpPr>
          <p:nvPr>
            <p:ph type="dt" idx="32"/>
          </p:nvPr>
        </p:nvSpPr>
        <p:spPr>
          <a:xfrm>
            <a:off x="388440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587"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8" name="PlaceHolder 5"/>
          <p:cNvSpPr>
            <a:spLocks noGrp="1"/>
          </p:cNvSpPr>
          <p:nvPr>
            <p:ph type="ftr" idx="33"/>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589" name="PlaceHolder 6"/>
          <p:cNvSpPr>
            <a:spLocks noGrp="1"/>
          </p:cNvSpPr>
          <p:nvPr>
            <p:ph type="sldNum" idx="34"/>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32CE0-D553-4E1C-9E0C-DD7FD9E1F2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September 20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ule is designed for the participant who has experienced the Introduction to the Math Shifts module. </a:t>
            </a:r>
            <a:endParaRPr b="0" lang="en-US" sz="1200" spc="-1" strike="noStrike">
              <a:solidFill>
                <a:srgbClr val="000000"/>
              </a:solidFill>
              <a:latin typeface="Calibri"/>
            </a:endParaRPr>
          </a:p>
        </p:txBody>
      </p:sp>
      <p:sp>
        <p:nvSpPr>
          <p:cNvPr id="1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568EE-94CC-4F1D-994F-F7CC6D39F98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activity, we are going to spend a few minutes diving into K-2 and reflecting on what we just saw. We will then spend some time doing a similar activity for the 3-5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the emphases charts and the worksheet “Engaging with the Cont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the first page with the Domains and Cluster Headings for each grade - the overview - can be found in the Standards doc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with a few colleagues at your table, walk through the emphases for Kindergarten, First Grade, and Second Grade and reflect on the questions that are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ould you summarize the major work of the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look at the details in the tables for K, 1, and 2, how would you summariz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08D43-9CC3-4784-BF46-4774030A395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Only use these notes if you skipped K-2 and instead are going over 3-5 and 6-8. If you’ve already completed K-2, simply preview these charts with participants and move on to slide 17 for the activ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3</a:t>
            </a:r>
            <a:r>
              <a:rPr b="0" lang="en-US" sz="1200" spc="-1" strike="noStrike" baseline="30000">
                <a:solidFill>
                  <a:srgbClr val="000000"/>
                </a:solidFill>
                <a:latin typeface="Calibri"/>
              </a:rPr>
              <a:t>rd</a:t>
            </a:r>
            <a:r>
              <a:rPr b="0" lang="en-US" sz="1200" spc="-1" strike="noStrike">
                <a:solidFill>
                  <a:srgbClr val="000000"/>
                </a:solidFill>
                <a:latin typeface="Calibri"/>
              </a:rPr>
              <a:t> grade overview chart that is found in the Standards document. It is important to note that these are NOT the standards, but simply an overview of the domains and cluster headings for each grade.  The pages that follow this overview will have the actual standards and will tell us what really is going on in each of these areas, but it can be useful to look at a grade level from the overview</a:t>
            </a:r>
            <a:r>
              <a:rPr b="1" lang="en-US" sz="1200" spc="-1" strike="noStrike">
                <a:solidFill>
                  <a:srgbClr val="000000"/>
                </a:solidFill>
                <a:latin typeface="Calibri"/>
              </a:rPr>
              <a:t>,</a:t>
            </a:r>
            <a:r>
              <a:rPr b="0" lang="en-US" sz="1200" spc="-1" strike="noStrike">
                <a:solidFill>
                  <a:srgbClr val="000000"/>
                </a:solidFill>
                <a:latin typeface="Calibri"/>
              </a:rPr>
              <a:t> where we only see the domain and cluster headings.  We can see that there are 5 domains in 3</a:t>
            </a:r>
            <a:r>
              <a:rPr b="0" lang="en-US" sz="1200" spc="-1" strike="noStrike" baseline="30000">
                <a:solidFill>
                  <a:srgbClr val="000000"/>
                </a:solidFill>
                <a:latin typeface="Calibri"/>
              </a:rPr>
              <a:t>rd</a:t>
            </a:r>
            <a:r>
              <a:rPr b="0" lang="en-US" sz="1200" spc="-1" strike="noStrike">
                <a:solidFill>
                  <a:srgbClr val="000000"/>
                </a:solidFill>
                <a:latin typeface="Calibri"/>
              </a:rPr>
              <a:t> grade. They are not the same five domains in all of the other grades. In 3</a:t>
            </a:r>
            <a:r>
              <a:rPr b="0" lang="en-US" sz="1200" spc="-1" strike="noStrike" baseline="30000">
                <a:solidFill>
                  <a:srgbClr val="000000"/>
                </a:solidFill>
                <a:latin typeface="Calibri"/>
              </a:rPr>
              <a:t>rd</a:t>
            </a:r>
            <a:r>
              <a:rPr b="0" lang="en-US" sz="1200" spc="-1" strike="noStrike">
                <a:solidFill>
                  <a:srgbClr val="000000"/>
                </a:solidFill>
                <a:latin typeface="Calibri"/>
              </a:rPr>
              <a:t> grade the focus is on operations and algebraic thinking, number and operations in base ten, number and operations – fractions, measurement and data, and geometry.  The clusters give us a general idea of what is happening within each domain.  The slide is small and may be hard to read, but in your Standards booklets you have one of these pages for each of the grade leve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way of looking at Focus in the first sense. You can see what is notably absent from 3</a:t>
            </a:r>
            <a:r>
              <a:rPr b="0" lang="en-US" sz="1200" spc="-1" strike="noStrike" baseline="30000">
                <a:solidFill>
                  <a:srgbClr val="000000"/>
                </a:solidFill>
                <a:latin typeface="Calibri"/>
              </a:rPr>
              <a:t>rd</a:t>
            </a:r>
            <a:r>
              <a:rPr b="0" lang="en-US" sz="1200" spc="-1" strike="noStrike">
                <a:solidFill>
                  <a:srgbClr val="000000"/>
                </a:solidFill>
                <a:latin typeface="Calibri"/>
              </a:rPr>
              <a:t> grade that used to be a part of that grad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need to turn the page and look at the actual Standards to see what really is happening at each of these levels, but looking at this page is one way of getting a general picture of what is going on in terms of what is in and what is ou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25FCB-1AB6-40B2-8E3F-0E3E27B6ADF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gain, only use these notes if you skipped K-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next page shows the second level of focus: the shape of the content that is in. This is the same table, which shows the domains and cluster headings for 3</a:t>
            </a:r>
            <a:r>
              <a:rPr b="0" lang="en-US" sz="1200" spc="-1" strike="noStrike" baseline="30000">
                <a:solidFill>
                  <a:srgbClr val="000000"/>
                </a:solidFill>
                <a:latin typeface="Calibri"/>
              </a:rPr>
              <a:t>rd</a:t>
            </a:r>
            <a:r>
              <a:rPr b="0" lang="en-US" sz="1200" spc="-1" strike="noStrike">
                <a:solidFill>
                  <a:srgbClr val="000000"/>
                </a:solidFill>
                <a:latin typeface="Calibri"/>
              </a:rPr>
              <a:t> grade. But if a mathematician or a math education expert, with the knowledge of how things develop over time, looked at the content for this grade, she would see the main emphases for that grade rising to the surf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we see the items marked with green squares are the major clusters. These are the things that are the clear focus of the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content listed here, the supporting clusters (blue squares) and the additional clusters (yellow circles), are also things that are important for that grade. Everything in the Standards is important and all needs to be covered. What this slide shows is the relationship, the connections among the Standards, and how things support one another.  These green squares are concepts that the student must leave Kindergarten knowing. Without a solid foundation of these ideas, they will be set up for failure as they continue through the years.  They really have to leave Kindergarten with a secure knowledge of these th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hings are not to be left out. It is important to understand how the additional and supporting clusters interact with the major focuses when thinking about time and making deci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4AB02-16A5-43F6-9383-B477F297A53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ize or briefly discuss grades 4 and 5.</a:t>
            </a:r>
            <a:endParaRPr b="0" lang="en-US" sz="1200" spc="-1" strike="noStrike">
              <a:solidFill>
                <a:srgbClr val="000000"/>
              </a:solidFill>
              <a:latin typeface="Calibri"/>
            </a:endParaRPr>
          </a:p>
        </p:txBody>
      </p:sp>
      <p:sp>
        <p:nvSpPr>
          <p:cNvPr id="1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BFBEF-43B6-4E58-9EB0-D4B9A1A7756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7CAB8-453A-459F-83C0-0728DA0F342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899C4-5281-429C-BB32-113940FD187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5D088-2170-4689-B172-AAED544649E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Only use these notes if you skipped K-2. If you’ve already done the K-2 activity, simply ask participants to repeat the activity with grades 3-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activity, we are going to spend a few minutes diving into 3-5 and reflecting on what we just saw. We will then spend some time doing a similar activity for the 6-8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the emphasis charts and the worksheet Engaging with the Cont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first page with the Domains and Cluster Headings for each grade can be found in the Stand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with a few colleagues at your table, walk through the emphases for 3</a:t>
            </a:r>
            <a:r>
              <a:rPr b="0" lang="en-US" sz="1200" spc="-1" strike="noStrike" baseline="30000">
                <a:solidFill>
                  <a:srgbClr val="000000"/>
                </a:solidFill>
                <a:latin typeface="Calibri"/>
              </a:rPr>
              <a:t>rd</a:t>
            </a:r>
            <a:r>
              <a:rPr b="0" lang="en-US" sz="1200" spc="-1" strike="noStrike">
                <a:solidFill>
                  <a:srgbClr val="000000"/>
                </a:solidFill>
                <a:latin typeface="Calibri"/>
              </a:rPr>
              <a:t> grade, 4</a:t>
            </a:r>
            <a:r>
              <a:rPr b="0" lang="en-US" sz="1200" spc="-1" strike="noStrike" baseline="30000">
                <a:solidFill>
                  <a:srgbClr val="000000"/>
                </a:solidFill>
                <a:latin typeface="Calibri"/>
              </a:rPr>
              <a:t>th</a:t>
            </a:r>
            <a:r>
              <a:rPr b="0" lang="en-US" sz="1200" spc="-1" strike="noStrike">
                <a:solidFill>
                  <a:srgbClr val="000000"/>
                </a:solidFill>
                <a:latin typeface="Calibri"/>
              </a:rPr>
              <a:t> grade</a:t>
            </a:r>
            <a:r>
              <a:rPr b="1" lang="en-US" sz="1200" spc="-1" strike="noStrike">
                <a:solidFill>
                  <a:srgbClr val="000000"/>
                </a:solidFill>
                <a:latin typeface="Calibri"/>
              </a:rPr>
              <a:t>,</a:t>
            </a:r>
            <a:r>
              <a:rPr b="0" lang="en-US" sz="1200" spc="-1" strike="noStrike">
                <a:solidFill>
                  <a:srgbClr val="000000"/>
                </a:solidFill>
                <a:latin typeface="Calibri"/>
              </a:rPr>
              <a:t> and 5</a:t>
            </a:r>
            <a:r>
              <a:rPr b="0" lang="en-US" sz="1200" spc="-1" strike="noStrike" baseline="30000">
                <a:solidFill>
                  <a:srgbClr val="000000"/>
                </a:solidFill>
                <a:latin typeface="Calibri"/>
              </a:rPr>
              <a:t>th</a:t>
            </a:r>
            <a:r>
              <a:rPr b="0" lang="en-US" sz="1200" spc="-1" strike="noStrike">
                <a:solidFill>
                  <a:srgbClr val="000000"/>
                </a:solidFill>
                <a:latin typeface="Calibri"/>
              </a:rPr>
              <a:t> grade  and reflect on the questions that are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ould you summarize the major work of the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look at the details in the tables for grades 3, 4, and 5, how would you summariz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C78E4-2098-42D4-B12E-CC16F257F3B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commended that middle school teachers first explore 3-5 and then 6-8.  If the facilitator chooses to only go over 6-8, please use the outline of notes on slides #11 and #12 to assist with this and the next page).</a:t>
            </a:r>
            <a:endParaRPr b="0" lang="en-US" sz="1200" spc="-1" strike="noStrike">
              <a:solidFill>
                <a:srgbClr val="000000"/>
              </a:solidFill>
              <a:latin typeface="Calibri"/>
            </a:endParaRPr>
          </a:p>
        </p:txBody>
      </p:sp>
      <p:sp>
        <p:nvSpPr>
          <p:cNvPr id="1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EE768-0270-4F6D-B093-57D99A87F09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8B9F4-9AEA-426B-A058-23B9634A73B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reminder of the three shifts that are required by the Common Core State Standards for Mathematics.</a:t>
            </a:r>
            <a:endParaRPr b="0" lang="en-US" sz="1200" spc="-1" strike="noStrike">
              <a:solidFill>
                <a:srgbClr val="000000"/>
              </a:solidFill>
              <a:latin typeface="Calibri"/>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slide</a:t>
            </a:r>
            <a:endParaRPr b="0" lang="en-US" sz="1200" spc="-1" strike="noStrike">
              <a:solidFill>
                <a:srgbClr val="000000"/>
              </a:solidFill>
              <a:latin typeface="Calibri"/>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5DBBA-E76F-489B-B889-21533F59A33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492FC-660B-42C8-A54D-AC6571EDCC6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E89B6-5FA3-40E1-8376-91BE40980C1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BEABA-3A19-472E-9537-63DF729230E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07F0F-8017-4A05-B113-79DD9068B8B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t’s take some </a:t>
            </a:r>
            <a:r>
              <a:rPr b="0" lang="en-US" sz="1200" spc="-1" strike="noStrike">
                <a:solidFill>
                  <a:srgbClr val="000000"/>
                </a:solidFill>
                <a:latin typeface="Calibri"/>
              </a:rPr>
              <a:t>time to closely review 6-8 grade band. After reviewing, please discuss with your groups the questions on this p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89DAB-7A25-4BAC-B89F-8E9D4C88945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herence is about math making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like there are two levels of focus, there are two types of coherence found in the math standards.  One is the coherence of topics across grades and the other is the coherence within a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see coherence across grades as the Standards direct us to have students apply learning from a previous grade to learn a new topic.  You will see coherence across grades as you see the thoughtfully laid out progressions of mathematics that are meaningful and make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see coherence within a grade in the Standards as they direct us to have students reinforce a major topic in a grade by utilizing a supporting topic.  You will see coherence within a grade as you see the meaningful introduction to topics in the same grade that complement each other.</a:t>
            </a:r>
            <a:endParaRPr b="0" lang="en-US" sz="1200" spc="-1" strike="noStrike">
              <a:solidFill>
                <a:srgbClr val="000000"/>
              </a:solidFill>
              <a:latin typeface="Calibri"/>
            </a:endParaRPr>
          </a:p>
        </p:txBody>
      </p:sp>
      <p:sp>
        <p:nvSpPr>
          <p:cNvPr id="1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FDC9D-BD12-4035-AE25-61BCF8A9EB5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examples of where coherence within a grade can be foun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very case in 1</a:t>
            </a:r>
            <a:r>
              <a:rPr b="0" lang="en-US" sz="1200" spc="-1" strike="noStrike" baseline="30000">
                <a:solidFill>
                  <a:srgbClr val="000000"/>
                </a:solidFill>
                <a:latin typeface="Calibri"/>
              </a:rPr>
              <a:t>st</a:t>
            </a:r>
            <a:r>
              <a:rPr b="0" lang="en-US" sz="1200" spc="-1" strike="noStrike">
                <a:solidFill>
                  <a:srgbClr val="000000"/>
                </a:solidFill>
                <a:latin typeface="Calibri"/>
              </a:rPr>
              <a:t> – 5</a:t>
            </a:r>
            <a:r>
              <a:rPr b="0" lang="en-US" sz="1200" spc="-1" strike="noStrike" baseline="30000">
                <a:solidFill>
                  <a:srgbClr val="000000"/>
                </a:solidFill>
                <a:latin typeface="Calibri"/>
              </a:rPr>
              <a:t>th</a:t>
            </a:r>
            <a:r>
              <a:rPr b="0" lang="en-US" sz="1200" spc="-1" strike="noStrike">
                <a:solidFill>
                  <a:srgbClr val="000000"/>
                </a:solidFill>
                <a:latin typeface="Calibri"/>
              </a:rPr>
              <a:t> grade, Represent and Interpret Data is a supporting cluster.  It is clear that the intent for 1</a:t>
            </a:r>
            <a:r>
              <a:rPr b="0" lang="en-US" sz="1200" spc="-1" strike="noStrike" baseline="30000">
                <a:solidFill>
                  <a:srgbClr val="000000"/>
                </a:solidFill>
                <a:latin typeface="Calibri"/>
              </a:rPr>
              <a:t>st</a:t>
            </a:r>
            <a:r>
              <a:rPr b="0" lang="en-US" sz="1200" spc="-1" strike="noStrike">
                <a:solidFill>
                  <a:srgbClr val="000000"/>
                </a:solidFill>
                <a:latin typeface="Calibri"/>
              </a:rPr>
              <a:t> – 5</a:t>
            </a:r>
            <a:r>
              <a:rPr b="0" lang="en-US" sz="1200" spc="-1" strike="noStrike" baseline="30000">
                <a:solidFill>
                  <a:srgbClr val="000000"/>
                </a:solidFill>
                <a:latin typeface="Calibri"/>
              </a:rPr>
              <a:t>th</a:t>
            </a:r>
            <a:r>
              <a:rPr b="0" lang="en-US" sz="1200" spc="-1" strike="noStrike">
                <a:solidFill>
                  <a:srgbClr val="000000"/>
                </a:solidFill>
                <a:latin typeface="Calibri"/>
              </a:rPr>
              <a:t> is that representing and interpreting data needs to be done in a way that supports and deepens the understanding of the major work of the gra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do not have to search for the coherence in the Standards - in many cases it is very clear such as in 3</a:t>
            </a:r>
            <a:r>
              <a:rPr b="0" lang="en-US" sz="1200" spc="-1" strike="noStrike" baseline="30000">
                <a:solidFill>
                  <a:srgbClr val="000000"/>
                </a:solidFill>
                <a:latin typeface="Calibri"/>
              </a:rPr>
              <a:t>rd</a:t>
            </a:r>
            <a:r>
              <a:rPr b="0" lang="en-US" sz="1200" spc="-1" strike="noStrike">
                <a:solidFill>
                  <a:srgbClr val="000000"/>
                </a:solidFill>
                <a:latin typeface="Calibri"/>
              </a:rPr>
              <a:t> and 5</a:t>
            </a:r>
            <a:r>
              <a:rPr b="0" lang="en-US" sz="1200" spc="-1" strike="noStrike" baseline="30000">
                <a:solidFill>
                  <a:srgbClr val="000000"/>
                </a:solidFill>
                <a:latin typeface="Calibri"/>
              </a:rPr>
              <a:t>th</a:t>
            </a:r>
            <a:r>
              <a:rPr b="0" lang="en-US" sz="1200" spc="-1" strike="noStrike">
                <a:solidFill>
                  <a:srgbClr val="000000"/>
                </a:solidFill>
                <a:latin typeface="Calibri"/>
              </a:rPr>
              <a:t> grade when teachers are asked to relate area and volume to multiplication and addition.  Here the teacher is shown that area and volume are not to be taught in isolation but as a topic that relates to something else.  Again, this is about math making sens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6</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are graphing in all 4 quadrants for the first time.  It shouldn’t be a surprise that that is the first year students are introduced to rational numbe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8</a:t>
            </a:r>
            <a:r>
              <a:rPr b="0" lang="en-US" sz="1200" spc="-1" strike="noStrike" baseline="30000">
                <a:solidFill>
                  <a:srgbClr val="000000"/>
                </a:solidFill>
                <a:latin typeface="Calibri"/>
              </a:rPr>
              <a:t>th</a:t>
            </a:r>
            <a:r>
              <a:rPr b="0" lang="en-US" sz="1200" spc="-1" strike="noStrike">
                <a:solidFill>
                  <a:srgbClr val="000000"/>
                </a:solidFill>
                <a:latin typeface="Calibri"/>
              </a:rPr>
              <a:t> grade, cluster 8.EE.B demands that students actually understand </a:t>
            </a:r>
            <a:r>
              <a:rPr b="0" i="1" lang="en-US" sz="1200" spc="-1" strike="noStrike">
                <a:solidFill>
                  <a:srgbClr val="000000"/>
                </a:solidFill>
                <a:latin typeface="Calibri"/>
              </a:rPr>
              <a:t>the connections </a:t>
            </a:r>
            <a:r>
              <a:rPr b="0" lang="en-US" sz="1200" spc="-1" strike="noStrike">
                <a:solidFill>
                  <a:srgbClr val="000000"/>
                </a:solidFill>
                <a:latin typeface="Calibri"/>
              </a:rPr>
              <a:t>between proportional relationships, lines</a:t>
            </a:r>
            <a:r>
              <a:rPr b="1" lang="en-US" sz="1200" spc="-1" strike="noStrike">
                <a:solidFill>
                  <a:srgbClr val="000000"/>
                </a:solidFill>
                <a:latin typeface="Calibri"/>
              </a:rPr>
              <a:t>,</a:t>
            </a:r>
            <a:r>
              <a:rPr b="0" lang="en-US" sz="1200" spc="-1" strike="noStrike">
                <a:solidFill>
                  <a:srgbClr val="000000"/>
                </a:solidFill>
                <a:latin typeface="Calibri"/>
              </a:rPr>
              <a:t> and linear equations.  This is not left up to chance, but is written in the standards.</a:t>
            </a:r>
            <a:endParaRPr b="0" lang="en-US" sz="1200" spc="-1" strike="noStrike">
              <a:solidFill>
                <a:srgbClr val="000000"/>
              </a:solidFill>
              <a:latin typeface="Calibri"/>
            </a:endParaRPr>
          </a:p>
        </p:txBody>
      </p:sp>
      <p:sp>
        <p:nvSpPr>
          <p:cNvPr id="1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09DF8-70A5-4DC0-AD29-5FF4EF21A37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2</a:t>
            </a:r>
            <a:r>
              <a:rPr b="0" lang="en-US" sz="1200" spc="-1" strike="noStrike" baseline="30000">
                <a:solidFill>
                  <a:srgbClr val="000000"/>
                </a:solidFill>
                <a:latin typeface="Calibri"/>
              </a:rPr>
              <a:t>nd</a:t>
            </a:r>
            <a:r>
              <a:rPr b="0" lang="en-US" sz="1200" spc="-1" strike="noStrike">
                <a:solidFill>
                  <a:srgbClr val="000000"/>
                </a:solidFill>
                <a:latin typeface="Calibri"/>
              </a:rPr>
              <a:t> grade standard 2.NBT.5, students are required to add and subtract within 100. 2.MD.5 strengthens this for students by asking them to solve word problems involving length as a context for adding and subtracting within 100.  Here we see standards that support each other so math makes sense to students and that the math they are doing is related to other math that they are doing,  rather than a endless list of discrete topics to learn.</a:t>
            </a:r>
            <a:endParaRPr b="0" lang="en-US" sz="1200" spc="-1" strike="noStrike">
              <a:solidFill>
                <a:srgbClr val="000000"/>
              </a:solidFill>
              <a:latin typeface="Calibri"/>
            </a:endParaRPr>
          </a:p>
        </p:txBody>
      </p:sp>
      <p:sp>
        <p:nvSpPr>
          <p:cNvPr id="1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3F5DE-4A9C-4136-9044-D803C2593E9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4</a:t>
            </a:r>
            <a:r>
              <a:rPr b="0" lang="en-US" sz="1200" spc="-1" strike="noStrike" baseline="30000">
                <a:solidFill>
                  <a:srgbClr val="000000"/>
                </a:solidFill>
                <a:latin typeface="Calibri"/>
              </a:rPr>
              <a:t>th</a:t>
            </a:r>
            <a:r>
              <a:rPr b="0" lang="en-US" sz="1200" spc="-1" strike="noStrike">
                <a:solidFill>
                  <a:srgbClr val="000000"/>
                </a:solidFill>
                <a:latin typeface="Calibri"/>
              </a:rPr>
              <a:t> Grade Cluster of Represent and Interpret Data, students use line plots to reinforce the major work of adding and subtracting fractions with like denominators.  Line plots are not a separate unrelated topic in 4</a:t>
            </a:r>
            <a:r>
              <a:rPr b="0" lang="en-US" sz="1200" spc="-1" strike="noStrike" baseline="30000">
                <a:solidFill>
                  <a:srgbClr val="000000"/>
                </a:solidFill>
                <a:latin typeface="Calibri"/>
              </a:rPr>
              <a:t>th</a:t>
            </a:r>
            <a:r>
              <a:rPr b="0" lang="en-US" sz="1200" spc="-1" strike="noStrike">
                <a:solidFill>
                  <a:srgbClr val="000000"/>
                </a:solidFill>
                <a:latin typeface="Calibri"/>
              </a:rPr>
              <a:t> grade, but a vehicle for students to practice their newly learned skill of adding and subtracting fractions, as well as a vehicle for making sense of the sums and differences.  Again, not a new discrete topic to learn, but something that relates to the major work of the grade.</a:t>
            </a:r>
            <a:endParaRPr b="0" lang="en-US" sz="1200" spc="-1" strike="noStrike">
              <a:solidFill>
                <a:srgbClr val="000000"/>
              </a:solidFill>
              <a:latin typeface="Calibri"/>
            </a:endParaRPr>
          </a:p>
        </p:txBody>
      </p:sp>
      <p:sp>
        <p:nvSpPr>
          <p:cNvPr id="1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2A7E6-56CB-4FA2-9787-D162F4AF4EE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meaningful progressions of mathematics in the CCS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 look at some ways the coherence across grades is evident in the Standards.  In the activity we are going to do next, you will see how themes, topics</a:t>
            </a:r>
            <a:r>
              <a:rPr b="1" lang="en-US" sz="1200" spc="-1" strike="noStrike">
                <a:solidFill>
                  <a:srgbClr val="000000"/>
                </a:solidFill>
                <a:latin typeface="Calibri"/>
              </a:rPr>
              <a:t>,</a:t>
            </a:r>
            <a:r>
              <a:rPr b="0" lang="en-US" sz="1200" spc="-1" strike="noStrike">
                <a:solidFill>
                  <a:srgbClr val="000000"/>
                </a:solidFill>
                <a:latin typeface="Calibri"/>
              </a:rPr>
              <a:t> and language build across grades in the CCS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EA13B-541F-4D5B-8E18-7452F9AAAAC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levels of focus.  </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level is the focus of what is in versus what is </a:t>
            </a:r>
            <a:r>
              <a:rPr b="0" lang="en-US" sz="1200" spc="-1" strike="noStrike">
                <a:solidFill>
                  <a:srgbClr val="ff0000"/>
                </a:solidFill>
                <a:latin typeface="Calibri"/>
              </a:rPr>
              <a:t>out; </a:t>
            </a:r>
            <a:r>
              <a:rPr b="0" lang="en-US" sz="1200" spc="-1" strike="noStrike">
                <a:solidFill>
                  <a:srgbClr val="0070c0"/>
                </a:solidFill>
                <a:latin typeface="Calibri"/>
              </a:rPr>
              <a:t>what</a:t>
            </a:r>
            <a:r>
              <a:rPr b="0" lang="en-US" sz="1200" spc="-1" strike="noStrike">
                <a:solidFill>
                  <a:srgbClr val="000000"/>
                </a:solidFill>
                <a:latin typeface="Calibri"/>
              </a:rPr>
              <a:t> is being taught at each grade level compared to what is not.  It is because of this level of focus that teachers will have the time to go deeper with the math that is most important.   Compared to the typical state standards of the past (which in some cases were literally volumes of standards that would have taken years to “cover,”  even one grade’s worth of math), the Common Core State Standards for Mathematics have fewer standards which are manageable and it is clear what is expected of the teachers and students at each grade level.  That is the 1</a:t>
            </a:r>
            <a:r>
              <a:rPr b="0" lang="en-US" sz="1200" spc="-1" strike="noStrike" baseline="30000">
                <a:solidFill>
                  <a:srgbClr val="000000"/>
                </a:solidFill>
                <a:latin typeface="Calibri"/>
              </a:rPr>
              <a:t>st</a:t>
            </a:r>
            <a:r>
              <a:rPr b="0" lang="en-US" sz="1200" spc="-1" strike="noStrike">
                <a:solidFill>
                  <a:srgbClr val="000000"/>
                </a:solidFill>
                <a:latin typeface="Calibri"/>
              </a:rPr>
              <a:t>  level of focus.</a:t>
            </a:r>
            <a:endParaRPr b="0" lang="en-US" sz="1200" spc="-1" strike="noStrike">
              <a:solidFill>
                <a:srgbClr val="000000"/>
              </a:solidFill>
              <a:latin typeface="Calibri"/>
            </a:endParaRPr>
          </a:p>
          <a:p>
            <a:pPr lvl="1" marL="628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level of focus is the shape of the content that is in each grade or course.  What that means is that if you look at the “focused” list, say for Kindergarten, you can see the list in terms of shades. There are things that are really sharp and focused in the middle, that are the major content for that grade.  The other topics are there in a supporting way and help to support that major work.  So, even within the list that exists, there is focus.  That is the 2</a:t>
            </a:r>
            <a:r>
              <a:rPr b="0" lang="en-US" sz="1200" spc="-1" strike="noStrike" baseline="30000">
                <a:solidFill>
                  <a:srgbClr val="000000"/>
                </a:solidFill>
                <a:latin typeface="Calibri"/>
              </a:rPr>
              <a:t>nd</a:t>
            </a:r>
            <a:r>
              <a:rPr b="0" lang="en-US" sz="1200" spc="-1" strike="noStrike">
                <a:solidFill>
                  <a:srgbClr val="000000"/>
                </a:solidFill>
                <a:latin typeface="Calibri"/>
              </a:rPr>
              <a:t> level of focus.</a:t>
            </a:r>
            <a:endParaRPr b="0" lang="en-US" sz="12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0673E-C271-4DD9-B5EC-0894985652C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coherence activity, we really want you to dig into multiple standards. There are so many examples of coherence in the standards, just looking deeply at one of them is not enoug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y is to read the standards on the cards.  This isn’t an activity to just see if you know the standards for each grade or can reason the order they should go in.  Really read the standards.   See the coherence of the writing.  See how the topics progress from one grade to another.  See why it is important for teachers to know the standards for their grade as well as for the grades before and after thei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ivity is most beneficial when not using the standards as a guide.  We want you to have to mull over these standards and hash out tough decisions with your colleagues. When you are finished and comfortable with your choices, use the Standards to check your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Read the complete directions for this activity under the coherence card activity folder in the mod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06E11-513D-48B7-AD2F-DB6B45F59D5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or, as defined here, does not mean hard problems.  It doesn’t mean more diffic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or, here, means something very specific.  We are talking about the balance of these components of conceptual understanding, fluency</a:t>
            </a:r>
            <a:r>
              <a:rPr b="1" lang="en-US" sz="1200" spc="-1" strike="noStrike">
                <a:solidFill>
                  <a:srgbClr val="000000"/>
                </a:solidFill>
                <a:latin typeface="Calibri"/>
              </a:rPr>
              <a:t>,</a:t>
            </a:r>
            <a:r>
              <a:rPr b="0" lang="en-US" sz="1200" spc="-1" strike="noStrike">
                <a:solidFill>
                  <a:srgbClr val="000000"/>
                </a:solidFill>
                <a:latin typeface="Calibri"/>
              </a:rPr>
              <a:t> and appli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a:t>
            </a:r>
            <a:r>
              <a:rPr b="1" lang="en-US" sz="1200" spc="-1" strike="noStrike">
                <a:solidFill>
                  <a:srgbClr val="000000"/>
                </a:solidFill>
                <a:latin typeface="Calibri"/>
              </a:rPr>
              <a:t> </a:t>
            </a:r>
            <a:r>
              <a:rPr b="0" lang="en-US" sz="1200" spc="-1" strike="noStrike">
                <a:solidFill>
                  <a:srgbClr val="000000"/>
                </a:solidFill>
                <a:latin typeface="Calibri"/>
              </a:rPr>
              <a:t>look at a set of problems; some assess fluency, some require conceptual understanding</a:t>
            </a:r>
            <a:r>
              <a:rPr b="1" lang="en-US" sz="1200" spc="-1" strike="noStrike">
                <a:solidFill>
                  <a:srgbClr val="000000"/>
                </a:solidFill>
                <a:latin typeface="Calibri"/>
              </a:rPr>
              <a:t>,</a:t>
            </a:r>
            <a:r>
              <a:rPr b="0" lang="en-US" sz="1200" spc="-1" strike="noStrike">
                <a:solidFill>
                  <a:srgbClr val="000000"/>
                </a:solidFill>
                <a:latin typeface="Calibri"/>
              </a:rPr>
              <a:t> and some are examples of application.  By working through these problems, we can start seeing what this</a:t>
            </a:r>
            <a:r>
              <a:rPr b="1" lang="en-US" sz="1200" spc="-1" strike="noStrike">
                <a:solidFill>
                  <a:srgbClr val="000000"/>
                </a:solidFill>
                <a:latin typeface="Calibri"/>
              </a:rPr>
              <a:t> </a:t>
            </a:r>
            <a:r>
              <a:rPr b="0" lang="en-US" sz="1200" spc="-1" strike="noStrike">
                <a:solidFill>
                  <a:srgbClr val="000000"/>
                </a:solidFill>
                <a:latin typeface="Calibri"/>
              </a:rPr>
              <a:t>looks li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AB147-EB41-4185-BC21-E96A52A4F1B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ere are a few frequently asked questions about the idea of rigor and balance.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How can we assess fluency other than giving a timed tes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n you talk about assessment items that get at fluency, it is not always only going to be weekly timed tests. That may be an instructional practice that works for certain people, but it is not a</a:t>
            </a:r>
            <a:r>
              <a:rPr b="1" lang="en-US" sz="1000" spc="-1" strike="noStrike">
                <a:solidFill>
                  <a:srgbClr val="000000"/>
                </a:solidFill>
                <a:latin typeface="Calibri"/>
              </a:rPr>
              <a:t> </a:t>
            </a:r>
            <a:r>
              <a:rPr b="0" lang="en-US" sz="1000" spc="-1" strike="noStrike">
                <a:solidFill>
                  <a:srgbClr val="000000"/>
                </a:solidFill>
                <a:latin typeface="Calibri"/>
              </a:rPr>
              <a:t>mandate that everyone across the country will be doing timed tests.  There are lots of different ways to get to this idea of fluency and there are lots of different ways to know if a student is fluent in something</a:t>
            </a:r>
            <a:r>
              <a:rPr b="1" lang="en-US" sz="1000" spc="-1" strike="noStrike">
                <a:solidFill>
                  <a:srgbClr val="000000"/>
                </a:solidFill>
                <a:latin typeface="Calibri"/>
              </a:rPr>
              <a:t>.</a:t>
            </a:r>
            <a:r>
              <a:rPr b="0" lang="en-US" sz="1000" spc="-1" strike="noStrike">
                <a:solidFill>
                  <a:srgbClr val="000000"/>
                </a:solidFill>
                <a:latin typeface="Calibri"/>
              </a:rPr>
              <a:t>  On a side note, it is important to remember that assessing fluency is not necessarily the same as practicing fluency.  Often schools will do timed tests 3 days a week and think they are fulfilling the “fluency requirement.”  Students need opportunities to practice fluency, as well.</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Is it really possible to assess conceptual understanding?  What does it look lik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 how do you take the math that we want students to know out of context and how do we ask them something that just by doing the problem will tell us that they have conceptual understand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will be doing a set of sample problems in a moment.  Spend some time really thinking about the problems under conceptual understanding and see what is different.  Asking students to show work and explain can be informative, but it isn’t the only way to assess conceptual understanding and can become tiring for studen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astly, are the Common Core Standards in Math all about application and meaningful task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It is a common misconception that CCSSM is only about rich application tasks.  That is only one piece of the puzzle.  You cannot just do these tasks and think that everything else is going to happen.  This is not a criticism of the tasks that are out there.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tasks are often good.  Performance tasks are great, but where in those performance tasks are you getting at procedural skill and fluency?  Where are you getting at conceptual understand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cannot just expect those things to happen if we only do those tasks.  Remember that rigor in the Standards is a balance of time spent on conceptual understanding, procedural skill and fluency</a:t>
            </a:r>
            <a:r>
              <a:rPr b="1" lang="en-US" sz="1000" spc="-1" strike="noStrike">
                <a:solidFill>
                  <a:srgbClr val="000000"/>
                </a:solidFill>
                <a:latin typeface="Calibri"/>
              </a:rPr>
              <a:t>,</a:t>
            </a:r>
            <a:r>
              <a:rPr b="0" lang="en-US" sz="1000" spc="-1" strike="noStrike">
                <a:solidFill>
                  <a:srgbClr val="000000"/>
                </a:solidFill>
                <a:latin typeface="Calibri"/>
              </a:rPr>
              <a:t> and application.  The Standards themselves will typically guide the reader to what aspect of rigor is expected.</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0E729-CAD7-4158-A010-EADCC4C1659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of the key words to look for when determining if a standard should be assessed for conceptual understanding, procedural skill and fluency</a:t>
            </a:r>
            <a:r>
              <a:rPr b="1" lang="en-US" sz="1200" spc="-1" strike="noStrike">
                <a:solidFill>
                  <a:srgbClr val="000000"/>
                </a:solidFill>
                <a:latin typeface="Calibri"/>
              </a:rPr>
              <a:t>,</a:t>
            </a:r>
            <a:r>
              <a:rPr b="0" lang="en-US" sz="1200" spc="-1" strike="noStrike">
                <a:solidFill>
                  <a:srgbClr val="000000"/>
                </a:solidFill>
                <a:latin typeface="Calibri"/>
              </a:rPr>
              <a:t> or through an application typ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some other words that would highlight a “conceptual understanding” standard? </a:t>
            </a:r>
            <a:r>
              <a:rPr b="0" i="1" lang="en-US" sz="1200" spc="-1" strike="noStrike">
                <a:solidFill>
                  <a:srgbClr val="000000"/>
                </a:solidFill>
                <a:latin typeface="Calibri"/>
              </a:rPr>
              <a:t>(Interpret, recognize, describe, expl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these three aspects of rigor are not always addressed separately from each other, but what is clear is that the wording of each standard can help the teacher determine what the main goal of this standard is.</a:t>
            </a:r>
            <a:endParaRPr b="0" lang="en-US" sz="1200" spc="-1" strike="noStrike">
              <a:solidFill>
                <a:srgbClr val="000000"/>
              </a:solidFill>
              <a:latin typeface="Calibri"/>
            </a:endParaRPr>
          </a:p>
        </p:txBody>
      </p:sp>
      <p:sp>
        <p:nvSpPr>
          <p:cNvPr id="1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5A27D-1FEC-4A16-ABA3-08FE5D101CD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on Sample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aking some time to work through the sample problems, discuss the following question with those around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it look like when we are asking students to work on procedural skill and fluency, conceptual understanding, or appli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89409-7183-4A60-86B2-B87E20AEA7B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CE4B5-0EC2-4834-906B-7A0D6B87FE9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Depending on the audience, the presenter should choose to do the following slides for grade band K-2 and 3-5 </a:t>
            </a:r>
            <a:r>
              <a:rPr b="1" lang="en-US" sz="1200" spc="-1" strike="noStrike">
                <a:solidFill>
                  <a:srgbClr val="000000"/>
                </a:solidFill>
                <a:latin typeface="Calibri"/>
              </a:rPr>
              <a:t>or</a:t>
            </a:r>
            <a:r>
              <a:rPr b="0" lang="en-US" sz="1200" spc="-1" strike="noStrike">
                <a:solidFill>
                  <a:srgbClr val="000000"/>
                </a:solidFill>
                <a:latin typeface="Calibri"/>
              </a:rPr>
              <a:t> 3-5 and 6-8.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Kindergarten overview chart that is found in the Standards document. It is important to note that these are NOT the standards, but simply an overview of the domains and cluster headings for each grade.  The pages that follow this overview will have the actual standards and will tell us what really is going on in each of these areas, but it can be useful to look at a grade level from the overview</a:t>
            </a:r>
            <a:r>
              <a:rPr b="1" lang="en-US" sz="1200" spc="-1" strike="noStrike">
                <a:solidFill>
                  <a:srgbClr val="000000"/>
                </a:solidFill>
                <a:latin typeface="Calibri"/>
              </a:rPr>
              <a:t>,</a:t>
            </a:r>
            <a:r>
              <a:rPr b="0" lang="en-US" sz="1200" spc="-1" strike="noStrike">
                <a:solidFill>
                  <a:srgbClr val="000000"/>
                </a:solidFill>
                <a:latin typeface="Calibri"/>
              </a:rPr>
              <a:t> where we only see the domain and cluster headings.  We can see that there are 5 domains in Kindergarten. They are not the same five domains in all of the other grades. In kindergarten the focus is on counting and cardinality, operations and algebraic thinking, number and operations in base ten, measurement and data, and geometry.  The clusters give us a general idea of what is happening within each domain.  The slide is small and may be hard to read, but in your Standards booklets you have one of these pages for each of the grade leve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way of looking at Focus in the first sense. You can see what is notably absent from Kindergarten that used to be a part of that grad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need to turn the page and look at the actual Standards to see what really is happening at each of these levels, but looking at this page is one way of getting a general picture of what is going on in terms of what is in and what is ou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510D4-BB35-4582-A15C-04C8E25F1B9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next slide shows the second level of focus: the shape of the content that is in. This is the same table, it shows the domains and cluster headings for Kindergarten. But if a mathematician or a math education expert, with the knowledge of how things develop over time, looked at the content for this grade, she would see the main emphases for that grade rising to the surf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we see the items marked with green squares are the major clusters. These are the things that are the clear focus of the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content listed here, the supporting clusters (blue squares) and the additional clusters (yellow circles), are also things that are important for that grade. Everything in the Standards is important and all needs to be covered. What this slide shows is the relationship, the connections among the Standards, and how things support one another.  These green squares are concepts that the student must leave Kindergarten knowing. Without a solid foundation of these ideas, they will be set up for failure as they continue through the years.  They really have to leave Kindergarten with a secure knowledge of these th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hings are not to be left out. It is important to understand how the additional and supporting clusters interact with the major focuses when thinking about time and making decisions.  </a:t>
            </a:r>
            <a:endParaRPr b="0" lang="en-US" sz="1200" spc="-1" strike="noStrike">
              <a:solidFill>
                <a:srgbClr val="000000"/>
              </a:solidFill>
              <a:latin typeface="Calibri"/>
            </a:endParaRPr>
          </a:p>
        </p:txBody>
      </p:sp>
      <p:sp>
        <p:nvSpPr>
          <p:cNvPr id="1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A163B-F1BB-454B-B3CA-43C7573B861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efly acknowledge the same slides for 1</a:t>
            </a:r>
            <a:r>
              <a:rPr b="0" lang="en-US" sz="1200" spc="-1" strike="noStrike" baseline="30000">
                <a:solidFill>
                  <a:srgbClr val="000000"/>
                </a:solidFill>
                <a:latin typeface="Calibri"/>
              </a:rPr>
              <a:t>st</a:t>
            </a:r>
            <a:r>
              <a:rPr b="0" lang="en-US" sz="1200" spc="-1" strike="noStrike">
                <a:solidFill>
                  <a:srgbClr val="000000"/>
                </a:solidFill>
                <a:latin typeface="Calibri"/>
              </a:rPr>
              <a:t> and 2</a:t>
            </a:r>
            <a:r>
              <a:rPr b="0" lang="en-US" sz="1200" spc="-1" strike="noStrike" baseline="30000">
                <a:solidFill>
                  <a:srgbClr val="000000"/>
                </a:solidFill>
                <a:latin typeface="Calibri"/>
              </a:rPr>
              <a:t>nd</a:t>
            </a:r>
            <a:r>
              <a:rPr b="0" lang="en-US" sz="1200" spc="-1" strike="noStrike">
                <a:solidFill>
                  <a:srgbClr val="000000"/>
                </a:solidFill>
                <a:latin typeface="Calibri"/>
              </a:rPr>
              <a:t> grade.</a:t>
            </a:r>
            <a:endParaRPr b="0" lang="en-US" sz="1200" spc="-1" strike="noStrike">
              <a:solidFill>
                <a:srgbClr val="000000"/>
              </a:solidFill>
              <a:latin typeface="Calibri"/>
            </a:endParaRPr>
          </a:p>
        </p:txBody>
      </p:sp>
      <p:sp>
        <p:nvSpPr>
          <p:cNvPr id="1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E00A6-A996-41FA-8225-0325F1F9B8F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530B1-50FD-47E7-8875-3FA9F8B6A18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F7328-02A0-4BE6-9B61-6163D93BD80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E7370C-CF5A-49FF-9772-862F86F812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576A4495-D9C4-4C5B-BB24-2FB88B0F426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300DFE7B-3ABB-4CF0-A8FF-EB6E5E59689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00E051FA-DAC5-412D-9511-D9B3F372603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93012ADC-2B8D-46F7-86FE-947A7ED3329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FBAA6711-33ED-44A3-8004-132513B1205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F222D47C-9A73-4073-A359-E353AD8CF2C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78081590-FD35-443A-9BF2-F11D3C33B26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BA693B6D-AF47-4EE3-945A-CEE9647ED61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49BA2646-BA2F-4488-A0D0-DA6FF80EA85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B6ACC2D7-D8A9-41D0-8DA8-3F17B77B7C6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265A496-A45A-45EF-B082-67E58804BE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FD51B4D9-0AEE-4879-B833-A6769FB41B2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3ABF9326-1FD3-465C-8158-67C9D610F1A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4CAE6934-FF3C-4B6B-A51A-185FBC477E1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0248F0D3-761B-4B21-A53A-4304062C2B0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D92CDA36-24D3-4595-8819-D68808E8D74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7CF9344C-9628-4422-8630-7D28BCD08E5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6FE8685E-7933-482B-A236-948C0531A2D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32B80EEF-C3DE-42DB-A047-EAEE45F64D1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FFA9550A-65AE-4BBC-ACEF-2199E9EB9A5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08AC136A-5BD8-4104-BC5A-8F6746747F7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9561BF31-2F6F-4553-AB83-A72D9524B7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9ADF034C-DCE2-4651-9B0F-53318C27672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9015D50D-3518-4A2B-9AC4-7CCEB566B2B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512552F6-1D2A-4DAF-8C84-235EC7DEEEB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7650DC9D-C64E-4D8D-A528-838CDACB108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368214A8-BA2E-4D1E-B1AE-120551C26A7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CBC8E042-2620-40A6-9D44-102A85697B1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89A7C19E-D92D-44A1-BBD3-EDBAECD8935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231A10AF-72E5-46E0-B4E1-77BA54BD9E6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C35BDD36-DB61-45E2-94B3-8BD4A2BA1B5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76A430D6-03F9-486C-9273-1148FB3CDA5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6CF2EF84-53EF-4718-8982-11CE0D61FB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2B2705B-9E7A-4DB2-A46D-C2E00914D63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91B4797E-1495-488C-ABB5-21E601D4B6C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78BC8A79-4E18-4640-AC2D-2484357DAEB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A3D4D179-ABE5-4982-8486-EC896F2E7DB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B5E905A-0FC2-453B-9515-C5AD97FB7AE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015FC391-7F02-47E5-9F85-7BDBE0AA17F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4F03EBBF-3CA6-4409-B88D-C2FC91F9573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ECD4F66D-BB1B-4575-8FBD-6C4EDF47F98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F604E914-6A9B-4475-8E00-E2E0A0DA665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595FADEF-073E-4331-8396-2EDEAC1BFE3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3F8A5918-9EAB-4594-9385-3E98AE42EF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019D1F85-DBF7-46D3-90D6-27010DF6B85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B5939F04-CC5A-451D-8A96-7022D97BB6B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1DED242B-A5F7-461E-91F4-9D3E0F69C65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8A08C23D-73B1-4914-A7A3-5D5BCC346B9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82DFF129-A8EA-4205-AB74-5BD709F6F76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5644485B-5D1D-4943-BF33-2C3169AB9AC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F22B82AF-ED16-4EED-93AB-E69D39186936}"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6D296C1F-CF51-4A46-A698-7E5536A3D1FF}"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C1FD99A0-B38C-40CC-8899-7BEB2DD31DE6}"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E43851AB-458B-4FDE-8E92-BD118678A7C1}"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E9A45EEB-F957-40B3-A5A8-441903A7510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E94BB6AE-DEA0-41AD-8FE4-1EE933DE9ADC}"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A318BEAE-FC8F-4DA6-BF8C-CAC15CF67DCE}"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DAC35B94-06CE-4CD8-97F3-37EFB520D75C}"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33A3A21A-5396-459B-9AFA-22F504BE3163}"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6222B0E4-59C8-4679-AF3A-4D66C403D1D6}"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94AD0805-AD56-4B42-9891-526C767A9B64}"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46A59D6F-6D75-4FDA-9EAB-56D338196765}"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34C6A995-2BA5-496E-BF3D-D794BB46993F}"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FEF03C17-7D61-458D-9221-7641A203B5EC}"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D794AEC1-ECC2-4ACF-9EA0-F98AC5A2FC23}"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1DFE1D3C-CDF8-41F7-8230-6989FB3263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CB9BCBF3-D5FA-4B90-BB82-6ECED45C458E}"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90FBEDBF-F512-40F5-A845-C8A40FF29271}"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093458E7-96CF-4493-AC04-D6B2B2283420}"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837CCEB2-9352-4C89-930E-98A9CC37B27D}"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E3FC3307-4B37-4E3E-90F4-B15B0BD6C61B}"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757E5B77-8C2F-44C6-8FD9-F584A99542D4}"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B9AD1C8E-80EC-4F3A-85D5-02F07D8FD7F6}"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06219A61-9455-4393-8807-F082DF121BA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C611694B-0CF0-4BFF-A6FB-86770B77B035}"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BA4E3333-1CCE-4734-A28B-788560F76D6D}"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ADF70244-D970-4296-828D-A047392EDF0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05DB5031-20D5-4C50-B8C8-FA7562F9BBA8}"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02279996-BB05-46EC-96FD-2AC44121FF66}"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663449E8-75C2-4C17-BED1-72FEE4D39040}"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62EFFEED-721F-427B-BDA6-63821E4EA54C}"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4CF25195-D219-4C21-89F9-2E83D5EF552A}"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7EACCF7E-886C-43F9-8EC0-D4AFE63C8B2A}"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F564AD8E-7100-4FFD-AAA5-5DDB8B1A5C9A}"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E4B6B05E-D9F6-4C64-9885-1F097605B6C9}"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160A0352-0F77-450B-B5F7-84848671B77C}"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1FA70EF3-68D3-4E82-A01F-2D44BC53766A}"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4F0F5DC1-9950-45EE-B6D9-6CFB39540E3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0372DFE9-1F51-4F79-83B3-36B9C9C3C9F5}"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15FB8430-D396-491B-8E93-C8FDE1E02D4B}"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15968CFE-FC74-4C44-8FB0-521D79CE9A6B}"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BCBC0311-5147-4519-B8E2-9B2A4658A641}"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E2EB1D2F-EF8C-4688-B063-81CCC6449A70}"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433E5C0D-3EC2-4D4D-A70B-75DC9E226735}"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F12C23C7-D85F-4B30-8513-DB1711375FDD}"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190C9604-2B5C-4EB3-B500-0018474CB0EA}"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70A17AC6-5800-492E-87EB-F1D343CEA53E}"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73993171-08F3-4F6C-9196-1AC29CE061C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A8FCF61A-B5C5-41A5-8CD5-F6D8FA78EA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37CB4852-5002-4BF9-97FE-1E42BD58AAC0}"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BC3D7FC5-DDFE-4562-A279-B624F1266732}"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5CC14AEB-82A3-47A2-969F-8804E81C302F}"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0D72C85E-9695-4D20-9BCA-3C3B2EB86077}"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0A0B0FCB-CA94-49FD-AAFF-72A31357856A}"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1E4EC096-8D0C-4BCD-B8B5-4AF59C984ADB}"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730EA3DC-043A-4BB1-A535-F403FFC9966E}"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EFE369EA-F234-46E8-9AB1-806502C08717}"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47B10EBD-65BC-41BC-8A7F-1BA70F93D89B}"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D9CB8A1A-5922-4D3C-9E9F-86D041D8EA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6F6EAE54-C291-4436-96F5-4474B78E7285}"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EC784388-4238-4257-B8E2-10AA6F77F5FB}"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92BF0B6B-896C-4E1A-B806-040DFF8399EA}"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D7B7283A-AC13-43E5-8BDF-CC6664F18502}"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7F05154D-7635-4CEC-9111-212F3399FEF1}"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378144B0-D8A5-47E2-8B1E-D3E50D1D60BD}"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3B8284A2-2901-43B4-ABD6-22D5D7D8FEB1}"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CBA8CB27-9703-46D3-B76A-9B5683CFA8CE}"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2D62E440-AC13-4EFD-A454-80C34E45BCF0}"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237EF4C2-013C-4927-8452-0EC5196A86C0}"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8B7771FF-F7A3-4A61-8C86-F0D0AB0B2F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74144BD6-1B33-4905-94DF-196A3D787D70}"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E8A6AB03-B019-413A-B4DA-0ABB01065E9D}"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46D5FD25-6634-4BC2-B395-4296C2775E38}"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F286043F-6042-4F0E-9541-0498D018DB64}"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5C6CFA58-5D1B-4193-90FB-357A7E4157F4}"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FFAAE3CC-B63E-442A-AED4-8EB3F2D73EBE}"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1B3626B0-5F9D-44BF-883D-3ACE4B0CF26A}"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BCB94D7E-043D-494F-AB2B-5DC5F4DCBA48}"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C9EBAACA-486A-4B07-9C0D-B7CB343BDB37}"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097105F2-CC61-4CB2-A532-8A28A1A09F7D}"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FCF1DDDD-462A-457A-A5F5-8200B956CF2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E69267CC-3A63-479A-A93F-391410878A50}"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78A47136-691A-4D7E-9794-E2DF32E3DA79}"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70E51347-AB44-4C76-8933-882943233B1A}"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36CE221A-F1B1-46B4-B45A-9731C8F175D2}"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F9246B52-8E95-436D-B3B7-A2127A57D694}"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18388FCF-502B-4D63-BDE1-44401FBC80F1}"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A85125D7-379C-4196-AD6F-ED712AA322B1}"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6A943ED2-4A64-4AE8-881A-020649991E82}"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95E07476-65F5-4116-80BB-1F8B014FF0EF}"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D7CFD27B-CDFA-499B-9439-0BD5E75E467A}"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62949CC0-26D1-4229-85A2-5877032D218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37C960D-232A-4E08-BC68-287505B8A544}"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8E188323-E32F-433C-95F4-CDA644775895}"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7DDDA6D3-7E3A-4C2A-98BD-18C85DF3A771}"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9CF5A46F-2BC1-4B1A-BC02-C60BC77AE9BB}"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BA990307-D19C-49A3-93F8-8D1DB881EF55}"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B80FAA21-1093-47F8-A8D4-537A3E62C3E9}"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9D3CB662-D595-4316-A998-765618DCAC77}"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EFD46014-4DC9-4BAC-B9D3-988F4953FCF1}"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360C6395-919F-4F82-ADFE-F07249289089}"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061204D6-C38A-4EA2-A060-C6C66F5B1FA2}"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D392660E-1BE1-4742-BD09-56B8345F611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DE9E5959-80CF-4663-8171-A644085DEF63}"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9CEB7116-8172-44C1-BCC1-991644600AD4}"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CD7FB852-8DB1-409B-88BF-7891BE355577}"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ED545F61-96F6-40B4-BDC5-C60D20B0118C}"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C08FC3A5-DDD2-4545-8C2F-996C6973DF46}"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C30B754E-A9ED-4FF2-8732-26D8BC746506}"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AD80DB2D-8BCF-4DA6-8A01-70229F1B162E}"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E8B46924-FABF-48E9-AAD4-19A757AA1DE9}"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FBD105D3-B9CC-4AE6-95B8-9F55220CC1BC}"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6D158C6A-FFC5-44B6-9C7E-861DA4A56849}"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4EF3AE05-E0BF-417F-92B8-EC0C5D60667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EF1BDCE4-5B55-45A6-B9FE-B1BB57C3275E}"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94413022-36BF-4A22-B432-6B65FAB46D24}"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CF050779-35D1-4E54-9AE1-F301E587A14D}"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A008C418-BC26-42F1-AD70-017456833DBD}"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D8062331-57D3-47E8-A761-E0888EEA36C5}"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ACFB18E4-C270-4E3D-9DA9-7CDD121A4F98}"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1F6672D0-C86F-4954-9E22-4B6902BB2629}"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17CDD43E-738A-40E0-AD23-EC9E9ABF2F3C}"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00126655-41E9-4998-82BA-767E1D95866C}"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0BFB31D9-E0F0-4408-89E7-7B7931232A9D}"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F1150420-97D3-4140-8973-FA7DC5FA571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01840751-3B9F-4E90-8BDA-7D16121FB5B2}"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CB13A993-D694-464B-831E-E3B8C34EB61B}"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CCD34A91-6A21-4C69-A605-33F2662E7E65}"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D9B6DBC2-2A85-4587-BE50-8BB8ACEC749D}"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9BACBEEB-F117-4C3D-8111-C33124FE93FD}"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AF1C5C01-823E-4ECF-B261-723A0F24E518}"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9A9EF739-17CA-4251-8A07-1FF35007B72E}"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9E484282-0432-4209-BFB9-7112387AF711}"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786A5F60-BDE9-4716-9FE1-339BB3C78437}"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C0E1864D-77B0-4A65-B324-0C8275C1B776}"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411DDF32-7AC5-4616-A660-6724FC7B270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9A88CD07-4783-4F91-BC21-58BA7D7DE43B}"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15402FC9-F5B3-4C04-8E50-F1CBD5A16D7F}"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1598DD4A-D8E8-4A77-8F9B-4CBE64BA15EA}"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C7804F80-C9D1-40B6-82BF-C31BF80A4F96}"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1"/>
          </p:nvPr>
        </p:nvSpPr>
        <p:spPr/>
        <p:txBody>
          <a:bodyPr/>
          <a:p>
            <a:fld id="{819B6407-E8A4-47C0-A82F-18E9CC7D70E8}"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1"/>
          </p:nvPr>
        </p:nvSpPr>
        <p:spPr/>
        <p:txBody>
          <a:bodyPr/>
          <a:p>
            <a:fld id="{66153CA4-59DF-4ACF-895E-263F3670EFFA}"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F32B420A-B5AA-49C0-8E76-53FE98052517}"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6DE15CA0-0D58-414B-B9B7-D3E7B7380F83}"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CFC86D82-984F-4CD3-A2E1-624D79A81BEB}"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A90AD15A-7E81-43CE-9908-217EB80B96A6}"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1"/>
          </p:nvPr>
        </p:nvSpPr>
        <p:spPr/>
        <p:txBody>
          <a:bodyPr/>
          <a:p>
            <a:fld id="{F07AE5F0-694A-4090-B0F2-27987E0A9D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1F3D56F9-B1A7-4290-B44A-2CBDB88D6BA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632C8F71-F29C-482B-9EB9-83D19B66A7D6}"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1"/>
          </p:nvPr>
        </p:nvSpPr>
        <p:spPr/>
        <p:txBody>
          <a:bodyPr/>
          <a:p>
            <a:fld id="{8CE79134-C3E3-4119-B1DE-F78B016D3562}"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13116424-F763-459D-B583-5DC67A22C1E4}"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47FBBDD2-2891-4BF9-B30A-50E10E4178F3}"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6F622DB8-2AE0-48A9-8D88-92B9818D9739}"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7C762E06-FD75-410A-B6A2-9F187F110D4D}"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2"/>
          </p:nvPr>
        </p:nvSpPr>
        <p:spPr/>
        <p:txBody>
          <a:bodyPr/>
          <a:p>
            <a:fld id="{FE46AF91-AE30-436E-B50E-207DAA711C85}"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2"/>
          </p:nvPr>
        </p:nvSpPr>
        <p:spPr/>
        <p:txBody>
          <a:bodyPr/>
          <a:p>
            <a:fld id="{6DF8D4C8-EC2B-40C6-80C6-3CAE210416BD}"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9586B33D-5262-486F-989E-F4059A6834B5}"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CE8426F7-5857-4EA8-9038-BAC85580DD20}"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DFFCE5A8-3686-41EE-B07C-79E01A03BD9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1DDC585F-6D3D-456B-B035-9D6621DBDB09}"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59289628-79A1-4FFD-B8F4-2527E521961B}"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2"/>
          </p:nvPr>
        </p:nvSpPr>
        <p:spPr/>
        <p:txBody>
          <a:bodyPr/>
          <a:p>
            <a:fld id="{056381C2-1F27-4EAB-87E6-24F3ED704981}"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2"/>
          </p:nvPr>
        </p:nvSpPr>
        <p:spPr/>
        <p:txBody>
          <a:bodyPr/>
          <a:p>
            <a:fld id="{7FBB8CB4-55EB-4545-B585-20FA37C5BDE5}"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FE374166-47D7-42D9-86BA-61F54055B4E8}"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594FCBFA-76C9-46E0-BE61-CD7BD4E5B75D}"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2DFEC0B0-0EBE-4D67-918C-8E96CA67522C}"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82E47022-95B1-4675-B3E5-2278B17FD21F}"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CB0EBA58-73CC-4621-9405-1E1CC18C1EFF}"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3"/>
          </p:nvPr>
        </p:nvSpPr>
        <p:spPr/>
        <p:txBody>
          <a:bodyPr/>
          <a:p>
            <a:fld id="{93BB25B7-CE01-415A-9CDF-F25D75A795F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5E18BA30-7C53-46AA-B14F-E3DC3F7B0C63}"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3"/>
          </p:nvPr>
        </p:nvSpPr>
        <p:spPr/>
        <p:txBody>
          <a:bodyPr/>
          <a:p>
            <a:fld id="{1115BEC5-FD6B-4431-8B66-C561E9AA43AB}"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B0E1985B-BD3C-43FB-BB14-7A9EA4793955}"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1F08F262-EEE7-42C2-8A2E-9BA6D152D20F}"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9B56F217-6EE0-48B4-8AD1-92FC0F864BA1}"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573A2476-5AE8-4ADE-862E-3BF506461AE9}"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3"/>
          </p:nvPr>
        </p:nvSpPr>
        <p:spPr/>
        <p:txBody>
          <a:bodyPr/>
          <a:p>
            <a:fld id="{9AF90EC9-6638-4C3C-BD2E-B44C2F310C36}"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3"/>
          </p:nvPr>
        </p:nvSpPr>
        <p:spPr/>
        <p:txBody>
          <a:bodyPr/>
          <a:p>
            <a:fld id="{850B4914-30E7-4A25-84F8-C031363C10BA}"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9310ECFA-A9C1-429E-BA6E-53DE4BA74C48}"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07703D81-0DAD-4ECD-A4A2-665855F0491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0094A9CD-5D98-4AAD-83CC-11ABBD26CB0B}"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45474DDF-AB2A-4765-A3D6-68A602AFC60A}"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518425AA-369A-4117-9F9A-702BA6EFFA82}"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7D8782E1-56AA-4588-934B-4C5B5534A7B0}"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4"/>
          </p:nvPr>
        </p:nvSpPr>
        <p:spPr/>
        <p:txBody>
          <a:bodyPr/>
          <a:p>
            <a:fld id="{AC47F15C-9646-4628-8D24-5844EA03B916}"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4"/>
          </p:nvPr>
        </p:nvSpPr>
        <p:spPr/>
        <p:txBody>
          <a:bodyPr/>
          <a:p>
            <a:fld id="{0C469305-0FD8-46AC-8FDC-4FB2FA7CE1C6}"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ED8C65DD-2F91-46FB-BFF3-58D3653D4A88}"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0E16186D-C4F6-4C9B-BDE7-6203B980B5D7}"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A038273D-AE13-4D0D-A0A9-236C5D8D3BEF}"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4F06FCC9-E35A-4BC3-A47A-59A50EC146B8}"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4"/>
          </p:nvPr>
        </p:nvSpPr>
        <p:spPr/>
        <p:txBody>
          <a:bodyPr/>
          <a:p>
            <a:fld id="{5E979C3F-054B-44AB-AF5D-CA6F368E22C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FB9435AD-85CE-4782-9F9E-0352037D85BF}"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4"/>
          </p:nvPr>
        </p:nvSpPr>
        <p:spPr/>
        <p:txBody>
          <a:bodyPr/>
          <a:p>
            <a:fld id="{B23613FA-F24F-4E2A-BFDF-2013DBF6348F}"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66F5D247-C2EC-4353-A312-E7187F8BFC59}"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90F867B9-4941-42E1-9A64-E7E43A96BC89}"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FA12A794-DC42-4977-8FEF-2701487DE8D8}"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7E937F12-0187-4AB0-A675-A5FA662767A6}"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5"/>
          </p:nvPr>
        </p:nvSpPr>
        <p:spPr/>
        <p:txBody>
          <a:bodyPr/>
          <a:p>
            <a:fld id="{C70619B2-0229-4537-9CAD-1C8290BD018E}"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5"/>
          </p:nvPr>
        </p:nvSpPr>
        <p:spPr/>
        <p:txBody>
          <a:bodyPr/>
          <a:p>
            <a:fld id="{2D7880A7-AC1B-40D0-AF7F-12E4F6FAFAA1}"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F2447082-F42B-4C20-801A-2A53F18B9E5C}"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9A7966E4-063D-4365-AF8D-01FD18D43B5E}"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BDF5BA11-3D39-40EE-9234-9052DD9B40B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068D4E65-BE9E-453E-9C2A-F98F87BFD51A}"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5"/>
          </p:nvPr>
        </p:nvSpPr>
        <p:spPr/>
        <p:txBody>
          <a:bodyPr/>
          <a:p>
            <a:fld id="{7C5E22B6-393A-4DB2-85CC-B42328C6A33F}"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5"/>
          </p:nvPr>
        </p:nvSpPr>
        <p:spPr/>
        <p:txBody>
          <a:bodyPr/>
          <a:p>
            <a:fld id="{DC984A56-91C5-4554-A18F-31481BB1107A}"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55F3CFAE-801F-4BBA-9996-4E6777060387}"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88D76FDE-6A8E-4F00-BFDF-003CB3768AB4}"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CCF50C73-368A-4047-B43C-232C29CF197E}"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70A994B4-397F-42BB-9BE3-AF4A02E766A2}"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6"/>
          </p:nvPr>
        </p:nvSpPr>
        <p:spPr/>
        <p:txBody>
          <a:bodyPr/>
          <a:p>
            <a:fld id="{E5EB2E3F-9F82-4310-8BE2-A2F78EBC1CBB}"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6"/>
          </p:nvPr>
        </p:nvSpPr>
        <p:spPr/>
        <p:txBody>
          <a:bodyPr/>
          <a:p>
            <a:fld id="{1F0E591A-C366-4089-830C-D3B4CF2F5A51}"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BAAFBB03-4475-4A69-AA4E-B3EAFEC7775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243D9135-6911-408A-9FD9-608DE8C1AF99}"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CF7DF751-8592-4A03-8356-0D0ADA9E9DB1}"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BA21558A-CE8F-449F-B84D-D6B5E08705CD}"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6"/>
          </p:nvPr>
        </p:nvSpPr>
        <p:spPr/>
        <p:txBody>
          <a:bodyPr/>
          <a:p>
            <a:fld id="{2DF3DDAD-7AA2-438D-8824-C334627192C1}"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6"/>
          </p:nvPr>
        </p:nvSpPr>
        <p:spPr/>
        <p:txBody>
          <a:bodyPr/>
          <a:p>
            <a:fld id="{8BDECD20-4BD3-453E-B9AC-89C30456705C}"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6CD5DE59-2737-4F36-8D12-33146909C030}"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A85B76BB-B665-46A2-A07F-FAFD9BAC4C6E}"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756AA3E9-8BA2-4C51-AD43-2AF776B13F26}"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E662A963-2F90-4D86-B8BF-0F6E0D398475}"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7"/>
          </p:nvPr>
        </p:nvSpPr>
        <p:spPr/>
        <p:txBody>
          <a:bodyPr/>
          <a:p>
            <a:fld id="{1426C637-BD16-426B-9006-79C6C4180E7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7"/>
          </p:nvPr>
        </p:nvSpPr>
        <p:spPr/>
        <p:txBody>
          <a:bodyPr/>
          <a:p>
            <a:fld id="{A68C4E6E-344C-4D25-A23E-0EA9C9DABF62}"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13AB2572-A1F8-4438-B97F-D2F38193E8CB}"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52B4E65E-2832-4A53-A6EC-0B701BE105B9}"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28A2EE2B-5597-42DD-84F9-4B8DAB4AADD4}"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AEDF2E31-9564-416A-911B-4188321C1CE2}"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7"/>
          </p:nvPr>
        </p:nvSpPr>
        <p:spPr/>
        <p:txBody>
          <a:bodyPr/>
          <a:p>
            <a:fld id="{6F2D2195-D9AB-4B98-8206-49E5346DDDBE}"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7"/>
          </p:nvPr>
        </p:nvSpPr>
        <p:spPr/>
        <p:txBody>
          <a:bodyPr/>
          <a:p>
            <a:fld id="{09EC3583-DE78-48C1-A1AE-E4963D2FFA28}"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37CA27CB-47DB-462B-A2B5-52C4A9B39CEE}"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E22B2046-1276-412C-81A0-9DBDF778EDA4}"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D0ACACC9-953E-4A49-8B05-0F78CEA37C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9EE6ADEF-0517-45F4-BDF4-AD806507E42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54F6922A-A9D7-4CFB-BF0A-C9C2D0AE76F5}"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8"/>
          </p:nvPr>
        </p:nvSpPr>
        <p:spPr/>
        <p:txBody>
          <a:bodyPr/>
          <a:p>
            <a:fld id="{EAFD45A8-1C7C-4764-8560-1B60D9BFFB72}"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8"/>
          </p:nvPr>
        </p:nvSpPr>
        <p:spPr/>
        <p:txBody>
          <a:bodyPr/>
          <a:p>
            <a:fld id="{7047C3CE-3D71-41D7-9224-CA83AFD0ECED}"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43EA7D4E-2122-416C-A631-00C642617385}"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DC8C4B0F-6AEE-4AC2-8789-C758D9ADA4F1}"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DB373D97-2904-42D1-9D01-BB52EF187F9E}"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A7A2B9E1-72C0-4234-909E-0E76AADFEC6E}"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8"/>
          </p:nvPr>
        </p:nvSpPr>
        <p:spPr/>
        <p:txBody>
          <a:bodyPr/>
          <a:p>
            <a:fld id="{A66D7021-D15C-4C59-830F-356AFAE92622}"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8"/>
          </p:nvPr>
        </p:nvSpPr>
        <p:spPr/>
        <p:txBody>
          <a:bodyPr/>
          <a:p>
            <a:fld id="{E38348C1-B7BA-4F27-859C-0E00B4323A5B}"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38AAD957-08B2-4662-BBB2-B491C818519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DF4553F6-5A5B-4C24-BA09-6C3CFB38052F}"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6BBA3B64-6637-4416-8FA1-2A54D2DDCAFC}"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2ECBF1C4-D075-4A38-954A-C77E42720138}"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9"/>
          </p:nvPr>
        </p:nvSpPr>
        <p:spPr/>
        <p:txBody>
          <a:bodyPr/>
          <a:p>
            <a:fld id="{DAB0FA5E-2952-4128-96A3-8BB97039513E}"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9"/>
          </p:nvPr>
        </p:nvSpPr>
        <p:spPr/>
        <p:txBody>
          <a:bodyPr/>
          <a:p>
            <a:fld id="{BEB85BCD-948C-41DD-9EA2-C9D53E617669}"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32AC3599-C832-4BF7-913F-4B86F0B2DD75}"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948FE144-D6D0-46FF-94FA-C2A8E5CE17D2}"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4FF1EC43-21E7-4F7C-9E79-5FAFC707B489}"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515E83CD-D53F-4406-AC22-E773E9C17743}"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9"/>
          </p:nvPr>
        </p:nvSpPr>
        <p:spPr/>
        <p:txBody>
          <a:bodyPr/>
          <a:p>
            <a:fld id="{DD4F349C-0591-4BE5-9A39-A305123CF73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9"/>
          </p:nvPr>
        </p:nvSpPr>
        <p:spPr/>
        <p:txBody>
          <a:bodyPr/>
          <a:p>
            <a:fld id="{BF791920-6B57-4852-BD14-E242777B916F}"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EBE3C83D-92A4-46AA-9B82-AB423A2709D5}"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B8395776-8712-4306-8183-DF9AF25AD73C}"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AFF469E9-694F-4BCF-BFAB-A62C81FC748F}"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56C340A8-16D6-4655-8DA9-2A3522DD2940}"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0"/>
          </p:nvPr>
        </p:nvSpPr>
        <p:spPr/>
        <p:txBody>
          <a:bodyPr/>
          <a:p>
            <a:fld id="{CD96CCC7-323C-42CB-BEC7-88FA5E0645AD}"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0"/>
          </p:nvPr>
        </p:nvSpPr>
        <p:spPr/>
        <p:txBody>
          <a:bodyPr/>
          <a:p>
            <a:fld id="{A17B3117-40A7-4310-8C19-27DC927981AF}"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E56F6F6E-C171-44B1-8CD3-F7178E6138B5}"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2A713D28-6285-4305-A5C5-62847C1D9445}"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0CD0B411-3E47-4153-A7A0-967E8E2C337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D2D30985-94A2-4203-8CBA-AAB3C7DF92AA}"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0"/>
          </p:nvPr>
        </p:nvSpPr>
        <p:spPr/>
        <p:txBody>
          <a:bodyPr/>
          <a:p>
            <a:fld id="{B92D9BBF-120A-4B53-8181-8771BC7D2AE4}"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0"/>
          </p:nvPr>
        </p:nvSpPr>
        <p:spPr/>
        <p:txBody>
          <a:bodyPr/>
          <a:p>
            <a:fld id="{46F96E19-51CE-4E2D-A41F-C5EE8CEC524C}"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59C83711-2160-4369-BFB7-5827D5AB3417}"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1324449D-0EEA-4FC2-8691-7F6F2D145F55}"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40FE89F8-258D-4E53-8063-43402E87B58F}"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4437DF6F-A938-491F-AB51-65C5C39E239A}"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1"/>
          </p:nvPr>
        </p:nvSpPr>
        <p:spPr/>
        <p:txBody>
          <a:bodyPr/>
          <a:p>
            <a:fld id="{11437895-45D2-4088-A18C-8708EB61B971}"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1"/>
          </p:nvPr>
        </p:nvSpPr>
        <p:spPr/>
        <p:txBody>
          <a:bodyPr/>
          <a:p>
            <a:fld id="{BD7012C8-69FA-477F-B6F0-2564982550D5}"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F0DCB18A-2348-48B1-8422-8C28E3C5A5C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4EB2C257-6E4D-40F4-951B-1AC70EF04744}"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D1968EF2-E875-465C-A8A8-7DE9E1BA124D}"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758AC7BA-23E1-4512-A10C-09A85EDC31FF}"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1"/>
          </p:nvPr>
        </p:nvSpPr>
        <p:spPr/>
        <p:txBody>
          <a:bodyPr/>
          <a:p>
            <a:fld id="{8CCA2A8B-FC28-4826-86B0-10B6B993669C}"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1"/>
          </p:nvPr>
        </p:nvSpPr>
        <p:spPr/>
        <p:txBody>
          <a:bodyPr/>
          <a:p>
            <a:fld id="{3584062D-52DF-4E62-BDC7-31C86303CF6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32A9177-0D17-4DF0-8062-0A82559A36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2C8993A8-F717-4FA6-B41D-5378E451A9E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A7C8C7E7-9681-4554-8F97-4C760D421D4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5EA154A8-6643-486E-AEBD-29464FF5EB4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E0A61F16-8C7D-4EB7-AEB6-7C45A8E0CE0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B87B947A-7C1C-4C55-B1BB-4AE131AC130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A796071C-104C-4759-901B-764BCF210ED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ADD319FE-EF4C-4758-B0AD-B715BF6535E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8696B5A4-B255-46F7-B8D6-7B289357E0C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E1CBE15D-B702-4267-8431-497CECF2C78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E7B8A02A-58FF-4026-AB71-9C93349CF43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F6D4A906-E7F8-4890-ABA8-6110899661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06949625-2C02-4E01-987E-F52CC012CE0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74576FA2-1D40-44B6-94E4-C8FFBB81D72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FB58A08-E677-41C9-A7DB-05F7A0C8914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AB4B4C37-8741-4F86-81AD-1960B350018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C60EFD3D-5195-4CEA-9B05-82BA923E3E2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7F1E3401-5F5C-4544-9226-A4DC019DDFC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2984DA87-30FE-4A3D-A48D-9B0553A7392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8A19D359-C4C3-443F-8090-21FB033220B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9533C26E-49CD-44EB-B00C-2DE61719C6D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7D9DEA2C-0C2B-46D7-BF0D-02E3B795566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CEF02858-5316-42E9-9616-558810BB11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C330D04D-9A03-48D5-8210-7C0F813EB78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07BEB8C0-6F2D-4CCF-B032-400341BB0BC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294DCA6A-CC13-4F62-A73E-33C83EE63BD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6EEAB6B1-8D8D-4BAA-8381-45CC74DFD7B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1CC66FA4-D03A-48F4-A92B-4A284F8E893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4CE7247-F7EF-487E-AEEA-FB1A5C7E74D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E3BF355B-9940-45ED-9C41-A594E490ED8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111F552B-95CD-466E-8164-8DDB07BE9D9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EBD29A98-BE09-4755-B894-08FCFEE6DF5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9374C492-33C4-4875-8CCA-3DF755F4B4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F056D5BC-E78D-4B66-80EE-E232F8051B6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7ADFE759-5F91-4711-8BCC-113351EFBFD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36EC5475-1031-41E0-8A67-16391F31C0E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AC998A65-7798-4AEF-B36C-AC7BE8E8DD8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F23B7F19-C42B-41F8-A85D-5033485FE50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61F71BCC-3C65-48F3-B9DF-D647F4F0E71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74AD5370-A42B-4CA2-A423-C9498EDF8B4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29A84708-D104-4DD7-BF21-B4E33538CD2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A2C9B41-C134-40CC-8F9A-A3233D68564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A686CF4C-8102-4480-B9CD-DAE7670A345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705777F8-2B72-4B5A-ADDC-584530EAF0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37FF6-E6E1-49C9-809C-53CA3AE5DE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4"/>
          <p:cNvGrpSpPr/>
          <p:nvPr/>
        </p:nvGrpSpPr>
        <p:grpSpPr>
          <a:xfrm>
            <a:off x="771480" y="6550200"/>
            <a:ext cx="8372520" cy="320400"/>
            <a:chOff x="771480" y="6550200"/>
            <a:chExt cx="8372520" cy="320400"/>
          </a:xfrm>
        </p:grpSpPr>
        <p:sp>
          <p:nvSpPr>
            <p:cNvPr id="37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2"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39DD5-F574-48AA-9D72-4BC4467A023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9" name="Group 4"/>
          <p:cNvGrpSpPr/>
          <p:nvPr/>
        </p:nvGrpSpPr>
        <p:grpSpPr>
          <a:xfrm>
            <a:off x="771480" y="6550200"/>
            <a:ext cx="8372520" cy="320400"/>
            <a:chOff x="771480" y="6550200"/>
            <a:chExt cx="8372520" cy="320400"/>
          </a:xfrm>
        </p:grpSpPr>
        <p:sp>
          <p:nvSpPr>
            <p:cNvPr id="42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25"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2E3AB-B760-4E09-A55E-1EC615A410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2" name="Group 4"/>
          <p:cNvGrpSpPr/>
          <p:nvPr/>
        </p:nvGrpSpPr>
        <p:grpSpPr>
          <a:xfrm>
            <a:off x="771480" y="6550200"/>
            <a:ext cx="8372520" cy="320400"/>
            <a:chOff x="771480" y="6550200"/>
            <a:chExt cx="8372520" cy="320400"/>
          </a:xfrm>
        </p:grpSpPr>
        <p:sp>
          <p:nvSpPr>
            <p:cNvPr id="46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68"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3D7DB-E791-4626-A1F1-CE61CC3A86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5" name="Group 4"/>
          <p:cNvGrpSpPr/>
          <p:nvPr/>
        </p:nvGrpSpPr>
        <p:grpSpPr>
          <a:xfrm>
            <a:off x="771480" y="6550200"/>
            <a:ext cx="8372520" cy="320400"/>
            <a:chOff x="771480" y="6550200"/>
            <a:chExt cx="8372520" cy="320400"/>
          </a:xfrm>
        </p:grpSpPr>
        <p:sp>
          <p:nvSpPr>
            <p:cNvPr id="50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11"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19D26-C5BA-4CE5-B2DD-528C975281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Group 4"/>
          <p:cNvGrpSpPr/>
          <p:nvPr/>
        </p:nvGrpSpPr>
        <p:grpSpPr>
          <a:xfrm>
            <a:off x="771480" y="6550200"/>
            <a:ext cx="8372520" cy="320400"/>
            <a:chOff x="771480" y="6550200"/>
            <a:chExt cx="8372520" cy="320400"/>
          </a:xfrm>
        </p:grpSpPr>
        <p:sp>
          <p:nvSpPr>
            <p:cNvPr id="54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5"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A7D8D-9289-4DBE-B53C-B4FE0B78D7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Group 4"/>
          <p:cNvGrpSpPr/>
          <p:nvPr/>
        </p:nvGrpSpPr>
        <p:grpSpPr>
          <a:xfrm>
            <a:off x="771480" y="6550200"/>
            <a:ext cx="8372520" cy="320400"/>
            <a:chOff x="771480" y="6550200"/>
            <a:chExt cx="8372520" cy="320400"/>
          </a:xfrm>
        </p:grpSpPr>
        <p:sp>
          <p:nvSpPr>
            <p:cNvPr id="59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98"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D8FAF-708C-47A7-BA34-2446C3E6469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4" name="Group 4"/>
          <p:cNvGrpSpPr/>
          <p:nvPr/>
        </p:nvGrpSpPr>
        <p:grpSpPr>
          <a:xfrm>
            <a:off x="771480" y="6550200"/>
            <a:ext cx="8372520" cy="320400"/>
            <a:chOff x="771480" y="6550200"/>
            <a:chExt cx="8372520" cy="320400"/>
          </a:xfrm>
        </p:grpSpPr>
        <p:sp>
          <p:nvSpPr>
            <p:cNvPr id="675"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6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81" name="PlaceHolder 3"/>
          <p:cNvSpPr>
            <a:spLocks noGrp="1"/>
          </p:cNvSpPr>
          <p:nvPr>
            <p:ph type="sldNum" idx="1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FFDD4-4BDF-4C13-80B2-80AE5A9AB9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994FA-1946-4489-ABCB-D5CE79C00F16}"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719" name="Group 6"/>
          <p:cNvGrpSpPr/>
          <p:nvPr/>
        </p:nvGrpSpPr>
        <p:grpSpPr>
          <a:xfrm>
            <a:off x="771480" y="6550200"/>
            <a:ext cx="8372520" cy="320400"/>
            <a:chOff x="771480" y="6550200"/>
            <a:chExt cx="8372520" cy="320400"/>
          </a:xfrm>
        </p:grpSpPr>
        <p:sp>
          <p:nvSpPr>
            <p:cNvPr id="720"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1" name="Group 4"/>
          <p:cNvGrpSpPr/>
          <p:nvPr/>
        </p:nvGrpSpPr>
        <p:grpSpPr>
          <a:xfrm>
            <a:off x="771480" y="6541560"/>
            <a:ext cx="8372520" cy="321120"/>
            <a:chOff x="771480" y="6541560"/>
            <a:chExt cx="8372520" cy="321120"/>
          </a:xfrm>
        </p:grpSpPr>
        <p:sp>
          <p:nvSpPr>
            <p:cNvPr id="762"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3"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6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07839-0CA5-4830-95B3-350BAABA989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1" name="PlaceHolder 3"/>
          <p:cNvSpPr>
            <a:spLocks noGrp="1"/>
          </p:cNvSpPr>
          <p:nvPr>
            <p:ph type="sldNum" idx="2"/>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74833-A6A5-4A19-B15D-25F3C4DEFC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5" name="Group 4"/>
          <p:cNvGrpSpPr/>
          <p:nvPr/>
        </p:nvGrpSpPr>
        <p:grpSpPr>
          <a:xfrm>
            <a:off x="771480" y="6541560"/>
            <a:ext cx="8372520" cy="321120"/>
            <a:chOff x="771480" y="6541560"/>
            <a:chExt cx="8372520" cy="321120"/>
          </a:xfrm>
        </p:grpSpPr>
        <p:sp>
          <p:nvSpPr>
            <p:cNvPr id="806"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12"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4422F-C8DD-4754-8AB2-3FEB0BD7787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9" name="Group 4"/>
          <p:cNvGrpSpPr/>
          <p:nvPr/>
        </p:nvGrpSpPr>
        <p:grpSpPr>
          <a:xfrm>
            <a:off x="771480" y="6550200"/>
            <a:ext cx="8372520" cy="320400"/>
            <a:chOff x="771480" y="6550200"/>
            <a:chExt cx="8372520" cy="320400"/>
          </a:xfrm>
        </p:grpSpPr>
        <p:sp>
          <p:nvSpPr>
            <p:cNvPr id="85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6"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6FAF0-D5EB-42C6-9C24-E5F0DA3051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3" name="Group 4"/>
          <p:cNvGrpSpPr/>
          <p:nvPr/>
        </p:nvGrpSpPr>
        <p:grpSpPr>
          <a:xfrm>
            <a:off x="771480" y="6550200"/>
            <a:ext cx="8372520" cy="320400"/>
            <a:chOff x="771480" y="6550200"/>
            <a:chExt cx="8372520" cy="320400"/>
          </a:xfrm>
        </p:grpSpPr>
        <p:sp>
          <p:nvSpPr>
            <p:cNvPr id="89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99"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67360-40BC-416A-B77D-039DF512DA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4"/>
          <p:cNvGrpSpPr/>
          <p:nvPr/>
        </p:nvGrpSpPr>
        <p:grpSpPr>
          <a:xfrm>
            <a:off x="771480" y="6550200"/>
            <a:ext cx="8372520" cy="320400"/>
            <a:chOff x="771480" y="6550200"/>
            <a:chExt cx="8372520" cy="320400"/>
          </a:xfrm>
        </p:grpSpPr>
        <p:sp>
          <p:nvSpPr>
            <p:cNvPr id="93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42"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5689D-1E1B-41F2-897E-6609C5A188F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9" name="Group 4"/>
          <p:cNvGrpSpPr/>
          <p:nvPr/>
        </p:nvGrpSpPr>
        <p:grpSpPr>
          <a:xfrm>
            <a:off x="771480" y="6550200"/>
            <a:ext cx="8372520" cy="320400"/>
            <a:chOff x="771480" y="6550200"/>
            <a:chExt cx="8372520" cy="320400"/>
          </a:xfrm>
        </p:grpSpPr>
        <p:sp>
          <p:nvSpPr>
            <p:cNvPr id="98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5"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11591-5D27-47C5-A9CC-84F20B53F2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2" name="Group 4"/>
          <p:cNvGrpSpPr/>
          <p:nvPr/>
        </p:nvGrpSpPr>
        <p:grpSpPr>
          <a:xfrm>
            <a:off x="771480" y="6550200"/>
            <a:ext cx="8372520" cy="320400"/>
            <a:chOff x="771480" y="6550200"/>
            <a:chExt cx="8372520" cy="320400"/>
          </a:xfrm>
        </p:grpSpPr>
        <p:sp>
          <p:nvSpPr>
            <p:cNvPr id="102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29" name="PlaceHolder 3"/>
          <p:cNvSpPr>
            <a:spLocks noGrp="1"/>
          </p:cNvSpPr>
          <p:nvPr>
            <p:ph type="sldNum" idx="2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6447C-5738-4BE2-BF28-8D75FAE5D7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6" name="Group 4"/>
          <p:cNvGrpSpPr/>
          <p:nvPr/>
        </p:nvGrpSpPr>
        <p:grpSpPr>
          <a:xfrm>
            <a:off x="771480" y="6550200"/>
            <a:ext cx="8372520" cy="320400"/>
            <a:chOff x="771480" y="6550200"/>
            <a:chExt cx="8372520" cy="320400"/>
          </a:xfrm>
        </p:grpSpPr>
        <p:sp>
          <p:nvSpPr>
            <p:cNvPr id="106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72" name="PlaceHolder 3"/>
          <p:cNvSpPr>
            <a:spLocks noGrp="1"/>
          </p:cNvSpPr>
          <p:nvPr>
            <p:ph type="sldNum" idx="2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AAD86-0FD1-4141-AB15-946CE75A6B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8" name="Group 4"/>
          <p:cNvGrpSpPr/>
          <p:nvPr/>
        </p:nvGrpSpPr>
        <p:grpSpPr>
          <a:xfrm>
            <a:off x="771480" y="6550200"/>
            <a:ext cx="8372520" cy="320400"/>
            <a:chOff x="771480" y="6550200"/>
            <a:chExt cx="8372520" cy="320400"/>
          </a:xfrm>
        </p:grpSpPr>
        <p:sp>
          <p:nvSpPr>
            <p:cNvPr id="114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TextBox 9"/>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155" name="PlaceHolder 3"/>
          <p:cNvSpPr>
            <a:spLocks noGrp="1"/>
          </p:cNvSpPr>
          <p:nvPr>
            <p:ph type="sldNum" idx="2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6158F-BDEC-4889-A230-2015FD5B01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71A03-C5C8-4ED0-BA53-1141BDC5F5A9}"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193" name="Group 6"/>
          <p:cNvGrpSpPr/>
          <p:nvPr/>
        </p:nvGrpSpPr>
        <p:grpSpPr>
          <a:xfrm>
            <a:off x="771480" y="6550200"/>
            <a:ext cx="8372520" cy="320400"/>
            <a:chOff x="771480" y="6550200"/>
            <a:chExt cx="8372520" cy="320400"/>
          </a:xfrm>
        </p:grpSpPr>
        <p:sp>
          <p:nvSpPr>
            <p:cNvPr id="119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6" name="TextBox 9"/>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0" name="PlaceHolder 3"/>
          <p:cNvSpPr>
            <a:spLocks noGrp="1"/>
          </p:cNvSpPr>
          <p:nvPr>
            <p:ph type="sldNum" idx="3"/>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03A5F-B22C-4665-AB8A-EB37E154115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5" name="Group 4"/>
          <p:cNvGrpSpPr/>
          <p:nvPr/>
        </p:nvGrpSpPr>
        <p:grpSpPr>
          <a:xfrm>
            <a:off x="771480" y="6541560"/>
            <a:ext cx="8372520" cy="321120"/>
            <a:chOff x="771480" y="6541560"/>
            <a:chExt cx="8372520" cy="321120"/>
          </a:xfrm>
        </p:grpSpPr>
        <p:sp>
          <p:nvSpPr>
            <p:cNvPr id="123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38"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239"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42" name="PlaceHolder 3"/>
          <p:cNvSpPr>
            <a:spLocks noGrp="1"/>
          </p:cNvSpPr>
          <p:nvPr>
            <p:ph type="sldNum" idx="2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3E961-2C56-49CD-B8B4-49856EE25B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9" name="Group 4"/>
          <p:cNvGrpSpPr/>
          <p:nvPr/>
        </p:nvGrpSpPr>
        <p:grpSpPr>
          <a:xfrm>
            <a:off x="771480" y="6541560"/>
            <a:ext cx="8372520" cy="321120"/>
            <a:chOff x="771480" y="6541560"/>
            <a:chExt cx="8372520" cy="321120"/>
          </a:xfrm>
        </p:grpSpPr>
        <p:sp>
          <p:nvSpPr>
            <p:cNvPr id="128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2"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283"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86" name="PlaceHolder 3"/>
          <p:cNvSpPr>
            <a:spLocks noGrp="1"/>
          </p:cNvSpPr>
          <p:nvPr>
            <p:ph type="sldNum" idx="2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3236A-01D9-4EC8-A6B1-7ABC7DE744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3" name="Group 4"/>
          <p:cNvGrpSpPr/>
          <p:nvPr/>
        </p:nvGrpSpPr>
        <p:grpSpPr>
          <a:xfrm>
            <a:off x="771480" y="6550200"/>
            <a:ext cx="8372520" cy="320400"/>
            <a:chOff x="771480" y="6550200"/>
            <a:chExt cx="8372520" cy="320400"/>
          </a:xfrm>
        </p:grpSpPr>
        <p:sp>
          <p:nvSpPr>
            <p:cNvPr id="132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6"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327"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30" name="PlaceHolder 3"/>
          <p:cNvSpPr>
            <a:spLocks noGrp="1"/>
          </p:cNvSpPr>
          <p:nvPr>
            <p:ph type="sldNum" idx="2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EAE4A-5E28-4DF9-B709-1AFA099FA2C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7" name="Group 4"/>
          <p:cNvGrpSpPr/>
          <p:nvPr/>
        </p:nvGrpSpPr>
        <p:grpSpPr>
          <a:xfrm>
            <a:off x="771480" y="6550200"/>
            <a:ext cx="8372520" cy="320400"/>
            <a:chOff x="771480" y="6550200"/>
            <a:chExt cx="8372520" cy="320400"/>
          </a:xfrm>
        </p:grpSpPr>
        <p:sp>
          <p:nvSpPr>
            <p:cNvPr id="136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70"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73" name="PlaceHolder 3"/>
          <p:cNvSpPr>
            <a:spLocks noGrp="1"/>
          </p:cNvSpPr>
          <p:nvPr>
            <p:ph type="sldNum" idx="2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71D10-7568-4EC2-BEDD-24E1B2E654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0" name="Group 4"/>
          <p:cNvGrpSpPr/>
          <p:nvPr/>
        </p:nvGrpSpPr>
        <p:grpSpPr>
          <a:xfrm>
            <a:off x="771480" y="6550200"/>
            <a:ext cx="8372520" cy="320400"/>
            <a:chOff x="771480" y="6550200"/>
            <a:chExt cx="8372520" cy="320400"/>
          </a:xfrm>
        </p:grpSpPr>
        <p:sp>
          <p:nvSpPr>
            <p:cNvPr id="141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3"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16" name="PlaceHolder 3"/>
          <p:cNvSpPr>
            <a:spLocks noGrp="1"/>
          </p:cNvSpPr>
          <p:nvPr>
            <p:ph type="sldNum" idx="2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66F3B-422B-4AC8-85C3-2D226DA140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3" name="Group 4"/>
          <p:cNvGrpSpPr/>
          <p:nvPr/>
        </p:nvGrpSpPr>
        <p:grpSpPr>
          <a:xfrm>
            <a:off x="771480" y="6550200"/>
            <a:ext cx="8372520" cy="320400"/>
            <a:chOff x="771480" y="6550200"/>
            <a:chExt cx="8372520" cy="320400"/>
          </a:xfrm>
        </p:grpSpPr>
        <p:sp>
          <p:nvSpPr>
            <p:cNvPr id="14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6"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4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59" name="PlaceHolder 3"/>
          <p:cNvSpPr>
            <a:spLocks noGrp="1"/>
          </p:cNvSpPr>
          <p:nvPr>
            <p:ph type="sldNum" idx="2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8C172-D5A0-49DD-BA3C-785BD4D9D6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6" name="Group 4"/>
          <p:cNvGrpSpPr/>
          <p:nvPr/>
        </p:nvGrpSpPr>
        <p:grpSpPr>
          <a:xfrm>
            <a:off x="771480" y="6550200"/>
            <a:ext cx="8372520" cy="320400"/>
            <a:chOff x="771480" y="6550200"/>
            <a:chExt cx="8372520" cy="320400"/>
          </a:xfrm>
        </p:grpSpPr>
        <p:sp>
          <p:nvSpPr>
            <p:cNvPr id="149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9"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500"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03" name="PlaceHolder 3"/>
          <p:cNvSpPr>
            <a:spLocks noGrp="1"/>
          </p:cNvSpPr>
          <p:nvPr>
            <p:ph type="sldNum" idx="3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4E027-17BD-497E-8212-D1C6E9AD25E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0" name="Group 4"/>
          <p:cNvGrpSpPr/>
          <p:nvPr/>
        </p:nvGrpSpPr>
        <p:grpSpPr>
          <a:xfrm>
            <a:off x="771480" y="6550200"/>
            <a:ext cx="8372520" cy="320400"/>
            <a:chOff x="771480" y="6550200"/>
            <a:chExt cx="8372520" cy="320400"/>
          </a:xfrm>
        </p:grpSpPr>
        <p:sp>
          <p:nvSpPr>
            <p:cNvPr id="15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3"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5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46" name="PlaceHolder 3"/>
          <p:cNvSpPr>
            <a:spLocks noGrp="1"/>
          </p:cNvSpPr>
          <p:nvPr>
            <p:ph type="sldNum" idx="3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28343-0FB2-4E4C-BA34-3F32C9D637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4"/>
          <p:cNvGrpSpPr/>
          <p:nvPr/>
        </p:nvGrpSpPr>
        <p:grpSpPr>
          <a:xfrm>
            <a:off x="771480" y="6550200"/>
            <a:ext cx="8372520" cy="320400"/>
            <a:chOff x="771480" y="6550200"/>
            <a:chExt cx="8372520" cy="320400"/>
          </a:xfrm>
        </p:grpSpPr>
        <p:sp>
          <p:nvSpPr>
            <p:cNvPr id="157"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63" name="PlaceHolder 3"/>
          <p:cNvSpPr>
            <a:spLocks noGrp="1"/>
          </p:cNvSpPr>
          <p:nvPr>
            <p:ph type="sldNum" idx="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2AF85-88D1-4C71-B2DF-5E0E0EA44E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Group 4"/>
          <p:cNvGrpSpPr/>
          <p:nvPr/>
        </p:nvGrpSpPr>
        <p:grpSpPr>
          <a:xfrm>
            <a:off x="771480" y="6550200"/>
            <a:ext cx="8372520" cy="320400"/>
            <a:chOff x="771480" y="6550200"/>
            <a:chExt cx="8372520" cy="320400"/>
          </a:xfrm>
        </p:grpSpPr>
        <p:sp>
          <p:nvSpPr>
            <p:cNvPr id="201"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07" name="PlaceHolder 3"/>
          <p:cNvSpPr>
            <a:spLocks noGrp="1"/>
          </p:cNvSpPr>
          <p:nvPr>
            <p:ph type="sldNum" idx="5"/>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4A05D-4F2C-414E-B14E-1F6488116E9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60AF6-2CFA-48A3-8D7A-D3DDEBFF30B4}"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245" name="Group 6"/>
          <p:cNvGrpSpPr/>
          <p:nvPr/>
        </p:nvGrpSpPr>
        <p:grpSpPr>
          <a:xfrm>
            <a:off x="771480" y="6550200"/>
            <a:ext cx="8372520" cy="320400"/>
            <a:chOff x="771480" y="6550200"/>
            <a:chExt cx="8372520" cy="320400"/>
          </a:xfrm>
        </p:grpSpPr>
        <p:sp>
          <p:nvSpPr>
            <p:cNvPr id="246"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Group 4"/>
          <p:cNvGrpSpPr/>
          <p:nvPr/>
        </p:nvGrpSpPr>
        <p:grpSpPr>
          <a:xfrm>
            <a:off x="771480" y="6541560"/>
            <a:ext cx="8372520" cy="321120"/>
            <a:chOff x="771480" y="6541560"/>
            <a:chExt cx="8372520" cy="321120"/>
          </a:xfrm>
        </p:grpSpPr>
        <p:sp>
          <p:nvSpPr>
            <p:cNvPr id="288"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9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C6AD4-4549-4458-848D-D55555F5D1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Group 4"/>
          <p:cNvGrpSpPr/>
          <p:nvPr/>
        </p:nvGrpSpPr>
        <p:grpSpPr>
          <a:xfrm>
            <a:off x="771480" y="6541560"/>
            <a:ext cx="8372520" cy="321120"/>
            <a:chOff x="771480" y="6541560"/>
            <a:chExt cx="8372520" cy="321120"/>
          </a:xfrm>
        </p:grpSpPr>
        <p:sp>
          <p:nvSpPr>
            <p:cNvPr id="332"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38"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62469-23E2-4982-BEA7-043BE8CA16C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2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2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2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2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2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2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2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2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2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2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title"/>
          </p:nvPr>
        </p:nvSpPr>
        <p:spPr>
          <a:xfrm>
            <a:off x="609120" y="2666880"/>
            <a:ext cx="769644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Deep Dive into the Math Shifts </a:t>
            </a:r>
            <a:br>
              <a:rPr sz="4000"/>
            </a:br>
            <a:endParaRPr b="1" lang="en-US" sz="4000" spc="-1" strike="noStrike">
              <a:solidFill>
                <a:srgbClr val="17375e"/>
              </a:solidFill>
              <a:latin typeface="Century Gothic"/>
            </a:endParaRPr>
          </a:p>
        </p:txBody>
      </p:sp>
      <p:sp>
        <p:nvSpPr>
          <p:cNvPr id="1591" name="PlaceHolder 2"/>
          <p:cNvSpPr>
            <a:spLocks noGrp="1"/>
          </p:cNvSpPr>
          <p:nvPr>
            <p:ph type="subTitle"/>
          </p:nvPr>
        </p:nvSpPr>
        <p:spPr>
          <a:xfrm>
            <a:off x="685800" y="4271760"/>
            <a:ext cx="6400800" cy="134460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Understanding Focus, Coherence, and Rigor in the Common Core State Standards for Mathematics</a:t>
            </a:r>
            <a:endParaRPr b="0" lang="en-US" sz="2800" spc="-1" strike="noStrike">
              <a:solidFill>
                <a:srgbClr val="262626"/>
              </a:solidFill>
              <a:latin typeface="Calibri"/>
            </a:endParaRPr>
          </a:p>
        </p:txBody>
      </p:sp>
      <p:pic>
        <p:nvPicPr>
          <p:cNvPr id="1592" name="Picture 5" descr="C:\Users\SAP\Desktop\SAP_iTunesCover_square_01.jpg"/>
          <p:cNvPicPr/>
          <p:nvPr/>
        </p:nvPicPr>
        <p:blipFill>
          <a:blip r:embed="rId1"/>
          <a:stretch/>
        </p:blipFill>
        <p:spPr>
          <a:xfrm>
            <a:off x="7772400" y="15228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K-2 Content</a:t>
            </a:r>
            <a:endParaRPr b="1" lang="en-US" sz="2800" spc="-1" strike="noStrike">
              <a:solidFill>
                <a:srgbClr val="17375e"/>
              </a:solidFill>
              <a:latin typeface="Century Gothic"/>
            </a:endParaRPr>
          </a:p>
        </p:txBody>
      </p:sp>
      <p:sp>
        <p:nvSpPr>
          <p:cNvPr id="160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K-2?</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a:t>
            </a:r>
            <a:r>
              <a:rPr b="1" lang="en-US" sz="2400" spc="-1" strike="noStrike">
                <a:solidFill>
                  <a:srgbClr val="262626"/>
                </a:solidFill>
                <a:latin typeface="Calibri"/>
              </a:rPr>
              <a:t>,</a:t>
            </a:r>
            <a:r>
              <a:rPr b="0" lang="en-US" sz="2400" spc="-1" strike="noStrike">
                <a:solidFill>
                  <a:srgbClr val="262626"/>
                </a:solidFill>
                <a:latin typeface="Calibri"/>
              </a:rPr>
              <a:t>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6" name="Picture 3" descr="Grade 3.PNG"/>
          <p:cNvPicPr/>
          <p:nvPr/>
        </p:nvPicPr>
        <p:blipFill>
          <a:blip r:embed="rId1"/>
          <a:stretch/>
        </p:blipFill>
        <p:spPr>
          <a:xfrm>
            <a:off x="2028960" y="352440"/>
            <a:ext cx="5086080" cy="615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7" name="Picture 3" descr="CEC Grade 3.PNG"/>
          <p:cNvPicPr/>
          <p:nvPr/>
        </p:nvPicPr>
        <p:blipFill>
          <a:blip r:embed="rId1"/>
          <a:stretch/>
        </p:blipFill>
        <p:spPr>
          <a:xfrm>
            <a:off x="1228680" y="871560"/>
            <a:ext cx="6686640" cy="511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8" name="Picture 3" descr="Grade 4.PNG"/>
          <p:cNvPicPr/>
          <p:nvPr/>
        </p:nvPicPr>
        <p:blipFill>
          <a:blip r:embed="rId1"/>
          <a:stretch/>
        </p:blipFill>
        <p:spPr>
          <a:xfrm>
            <a:off x="2071800" y="0"/>
            <a:ext cx="5000400" cy="644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9" name="Picture 3" descr="CEC Grade 4.PNG"/>
          <p:cNvPicPr/>
          <p:nvPr/>
        </p:nvPicPr>
        <p:blipFill>
          <a:blip r:embed="rId1"/>
          <a:stretch/>
        </p:blipFill>
        <p:spPr>
          <a:xfrm>
            <a:off x="1200240" y="1095480"/>
            <a:ext cx="6743520" cy="466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0" name="Picture 3" descr="Grade 5.PNG"/>
          <p:cNvPicPr/>
          <p:nvPr/>
        </p:nvPicPr>
        <p:blipFill>
          <a:blip r:embed="rId1"/>
          <a:stretch/>
        </p:blipFill>
        <p:spPr>
          <a:xfrm>
            <a:off x="2000160" y="380880"/>
            <a:ext cx="514368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1" name="Picture 3" descr="CEC Grade 5.PNG"/>
          <p:cNvPicPr/>
          <p:nvPr/>
        </p:nvPicPr>
        <p:blipFill>
          <a:blip r:embed="rId1"/>
          <a:stretch/>
        </p:blipFill>
        <p:spPr>
          <a:xfrm>
            <a:off x="1195560" y="1190520"/>
            <a:ext cx="6752880" cy="447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3-5 Content</a:t>
            </a:r>
            <a:endParaRPr b="1" lang="en-US" sz="2800" spc="-1" strike="noStrike">
              <a:solidFill>
                <a:srgbClr val="17375e"/>
              </a:solidFill>
              <a:latin typeface="Century Gothic"/>
            </a:endParaRPr>
          </a:p>
        </p:txBody>
      </p:sp>
      <p:sp>
        <p:nvSpPr>
          <p:cNvPr id="161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3-5?</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4" name="Picture 4" descr="Grade 6.PNG"/>
          <p:cNvPicPr/>
          <p:nvPr/>
        </p:nvPicPr>
        <p:blipFill>
          <a:blip r:embed="rId1"/>
          <a:stretch/>
        </p:blipFill>
        <p:spPr>
          <a:xfrm>
            <a:off x="1976400" y="385920"/>
            <a:ext cx="5191200" cy="608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5" name="Picture 3" descr="CEC Grade 6.PNG"/>
          <p:cNvPicPr/>
          <p:nvPr/>
        </p:nvPicPr>
        <p:blipFill>
          <a:blip r:embed="rId1"/>
          <a:stretch/>
        </p:blipFill>
        <p:spPr>
          <a:xfrm>
            <a:off x="1190520" y="1366920"/>
            <a:ext cx="6762960" cy="412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594"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595"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6" name="Picture 3" descr="Grade 7.PNG"/>
          <p:cNvPicPr/>
          <p:nvPr/>
        </p:nvPicPr>
        <p:blipFill>
          <a:blip r:embed="rId1"/>
          <a:stretch/>
        </p:blipFill>
        <p:spPr>
          <a:xfrm>
            <a:off x="2073240" y="0"/>
            <a:ext cx="4981680" cy="649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7" name="Picture 3" descr="CEC Grade 7.PNG"/>
          <p:cNvPicPr/>
          <p:nvPr/>
        </p:nvPicPr>
        <p:blipFill>
          <a:blip r:embed="rId1"/>
          <a:stretch/>
        </p:blipFill>
        <p:spPr>
          <a:xfrm>
            <a:off x="1143000" y="1523880"/>
            <a:ext cx="6745320" cy="38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8" name="Picture 3" descr="Grade 8.PNG"/>
          <p:cNvPicPr/>
          <p:nvPr/>
        </p:nvPicPr>
        <p:blipFill>
          <a:blip r:embed="rId1"/>
          <a:stretch/>
        </p:blipFill>
        <p:spPr>
          <a:xfrm>
            <a:off x="2021040" y="0"/>
            <a:ext cx="5086080" cy="6326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9" name="Picture 2" descr=""/>
          <p:cNvPicPr/>
          <p:nvPr/>
        </p:nvPicPr>
        <p:blipFill>
          <a:blip r:embed="rId1"/>
          <a:stretch/>
        </p:blipFill>
        <p:spPr>
          <a:xfrm>
            <a:off x="1352520" y="1776240"/>
            <a:ext cx="6438960" cy="3305520"/>
          </a:xfrm>
          <a:prstGeom prst="rect">
            <a:avLst/>
          </a:prstGeom>
          <a:ln w="0">
            <a:noFill/>
          </a:ln>
        </p:spPr>
      </p:pic>
      <p:pic>
        <p:nvPicPr>
          <p:cNvPr id="1620" name="Picture 3" descr=""/>
          <p:cNvPicPr/>
          <p:nvPr/>
        </p:nvPicPr>
        <p:blipFill>
          <a:blip r:embed="rId2"/>
          <a:stretch/>
        </p:blipFill>
        <p:spPr>
          <a:xfrm>
            <a:off x="1352520" y="1366920"/>
            <a:ext cx="2857680" cy="40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6-8 Content</a:t>
            </a:r>
            <a:endParaRPr b="1" lang="en-US" sz="2800" spc="-1" strike="noStrike">
              <a:solidFill>
                <a:srgbClr val="17375e"/>
              </a:solidFill>
              <a:latin typeface="Century Gothic"/>
            </a:endParaRPr>
          </a:p>
        </p:txBody>
      </p:sp>
      <p:sp>
        <p:nvSpPr>
          <p:cNvPr id="1622"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6-8?</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Coherence </a:t>
            </a:r>
            <a:r>
              <a:rPr b="1" lang="en-US" sz="6000" spc="-1" strike="noStrike">
                <a:solidFill>
                  <a:srgbClr val="17375e"/>
                </a:solidFill>
                <a:latin typeface="Century Gothic"/>
              </a:rPr>
              <a:t>Across and Within Grades</a:t>
            </a:r>
            <a:endParaRPr b="1" lang="en-US" sz="6000" spc="-1" strike="noStrike">
              <a:solidFill>
                <a:srgbClr val="17375e"/>
              </a:solidFill>
              <a:latin typeface="Century Gothic"/>
            </a:endParaRPr>
          </a:p>
        </p:txBody>
      </p:sp>
      <p:sp>
        <p:nvSpPr>
          <p:cNvPr id="1624"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bout math making sense.</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power and elegance of math comes out through carefully laid progressions and connections within grade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Within Grades</a:t>
            </a:r>
            <a:endParaRPr b="1" lang="en-US" sz="2800" spc="-1" strike="noStrike">
              <a:solidFill>
                <a:srgbClr val="17375e"/>
              </a:solidFill>
              <a:latin typeface="Century Gothic"/>
            </a:endParaRPr>
          </a:p>
        </p:txBody>
      </p:sp>
      <p:sp>
        <p:nvSpPr>
          <p:cNvPr id="162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xamples:</a:t>
            </a:r>
            <a:endParaRPr b="0" lang="en-US" sz="24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1</a:t>
            </a:r>
            <a:r>
              <a:rPr b="0" lang="en-US" sz="2000" spc="-1" strike="noStrike" baseline="30000">
                <a:solidFill>
                  <a:srgbClr val="262626"/>
                </a:solidFill>
                <a:latin typeface="Calibri"/>
              </a:rPr>
              <a:t>st</a:t>
            </a:r>
            <a:r>
              <a:rPr b="0" lang="en-US" sz="2000" spc="-1" strike="noStrike">
                <a:solidFill>
                  <a:srgbClr val="262626"/>
                </a:solidFill>
                <a:latin typeface="Calibri"/>
              </a:rPr>
              <a:t> grade – 5</a:t>
            </a:r>
            <a:r>
              <a:rPr b="0" lang="en-US" sz="2000" spc="-1" strike="noStrike" baseline="30000">
                <a:solidFill>
                  <a:srgbClr val="262626"/>
                </a:solidFill>
                <a:latin typeface="Calibri"/>
              </a:rPr>
              <a:t>th</a:t>
            </a:r>
            <a:r>
              <a:rPr b="0" lang="en-US" sz="2000" spc="-1" strike="noStrike">
                <a:solidFill>
                  <a:srgbClr val="262626"/>
                </a:solidFill>
                <a:latin typeface="Calibri"/>
              </a:rPr>
              <a:t> grade:   Represent and Interpret Data</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a:t>
            </a:r>
            <a:r>
              <a:rPr b="0" lang="en-US" sz="2000" spc="-1" strike="noStrike" baseline="30000">
                <a:solidFill>
                  <a:srgbClr val="262626"/>
                </a:solidFill>
                <a:latin typeface="Calibri"/>
              </a:rPr>
              <a:t>rd</a:t>
            </a:r>
            <a:r>
              <a:rPr b="0" lang="en-US" sz="2000" spc="-1" strike="noStrike">
                <a:solidFill>
                  <a:srgbClr val="262626"/>
                </a:solidFill>
                <a:latin typeface="Calibri"/>
              </a:rPr>
              <a:t> grade &amp; 5</a:t>
            </a:r>
            <a:r>
              <a:rPr b="0" lang="en-US" sz="2000" spc="-1" strike="noStrike" baseline="30000">
                <a:solidFill>
                  <a:srgbClr val="262626"/>
                </a:solidFill>
                <a:latin typeface="Calibri"/>
              </a:rPr>
              <a:t>th</a:t>
            </a:r>
            <a:r>
              <a:rPr b="0" lang="en-US" sz="2000" spc="-1" strike="noStrike">
                <a:solidFill>
                  <a:srgbClr val="262626"/>
                </a:solidFill>
                <a:latin typeface="Calibri"/>
              </a:rPr>
              <a:t> grade:  “Relate area (volume) to multiplication and to addition.”</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6</a:t>
            </a:r>
            <a:r>
              <a:rPr b="0" lang="en-US" sz="2000" spc="-1" strike="noStrike" baseline="30000">
                <a:solidFill>
                  <a:srgbClr val="262626"/>
                </a:solidFill>
                <a:latin typeface="Calibri"/>
              </a:rPr>
              <a:t>th</a:t>
            </a:r>
            <a:r>
              <a:rPr b="0" lang="en-US" sz="2000" spc="-1" strike="noStrike">
                <a:solidFill>
                  <a:srgbClr val="262626"/>
                </a:solidFill>
                <a:latin typeface="Calibri"/>
              </a:rPr>
              <a:t> grade:  Solve problems by graphing in all 4 quadrants.  (1</a:t>
            </a:r>
            <a:r>
              <a:rPr b="0" lang="en-US" sz="2000" spc="-1" strike="noStrike" baseline="30000">
                <a:solidFill>
                  <a:srgbClr val="262626"/>
                </a:solidFill>
                <a:latin typeface="Calibri"/>
              </a:rPr>
              <a:t>st</a:t>
            </a:r>
            <a:r>
              <a:rPr b="0" lang="en-US" sz="2000" spc="-1" strike="noStrike">
                <a:solidFill>
                  <a:srgbClr val="262626"/>
                </a:solidFill>
                <a:latin typeface="Calibri"/>
              </a:rPr>
              <a:t> year of rational number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8</a:t>
            </a:r>
            <a:r>
              <a:rPr b="0" lang="en-US" sz="2000" spc="-1" strike="noStrike" baseline="30000">
                <a:solidFill>
                  <a:srgbClr val="262626"/>
                </a:solidFill>
                <a:latin typeface="Calibri"/>
              </a:rPr>
              <a:t>th</a:t>
            </a:r>
            <a:r>
              <a:rPr b="0" lang="en-US" sz="2000" spc="-1" strike="noStrike">
                <a:solidFill>
                  <a:srgbClr val="262626"/>
                </a:solidFill>
                <a:latin typeface="Calibri"/>
              </a:rPr>
              <a:t> grade:  “Understand the connections between proportional relationships, lines and linear equation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2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Use addition and subtraction within 100 to solve word problems involving lengths that are given in the same units, e.g., by using drawings (such as drawings of rulers) and equations with a symbol for the unknown number to represent the proble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2.MD.5</a:t>
            </a:r>
            <a:endParaRPr b="0" lang="en-US" sz="2000" spc="-1" strike="noStrike">
              <a:solidFill>
                <a:srgbClr val="262626"/>
              </a:solidFill>
              <a:latin typeface="Calibri"/>
            </a:endParaRPr>
          </a:p>
        </p:txBody>
      </p:sp>
      <p:sp>
        <p:nvSpPr>
          <p:cNvPr id="162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25819-180D-4BCB-9335-DE89F5AEC808}"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31"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Make a line plot to display a data set of measurements in fractions of a unit ( ½, ¼, 1/8).  Solve problems involving addition and subtraction of fractions by using information presented in line plots.  </a:t>
            </a:r>
            <a:r>
              <a:rPr b="0" i="1" lang="en-US" sz="2000" spc="-1" strike="noStrike">
                <a:solidFill>
                  <a:srgbClr val="262626"/>
                </a:solidFill>
                <a:latin typeface="Calibri"/>
              </a:rPr>
              <a:t>For example, from a line plot find and interpret the difference in length between the longest and shortest specimens in an insect collection.</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4.MD.4</a:t>
            </a:r>
            <a:endParaRPr b="0" lang="en-US" sz="2400" spc="-1" strike="noStrike">
              <a:solidFill>
                <a:srgbClr val="262626"/>
              </a:solidFill>
              <a:latin typeface="Calibri"/>
            </a:endParaRPr>
          </a:p>
        </p:txBody>
      </p:sp>
      <p:sp>
        <p:nvSpPr>
          <p:cNvPr id="163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9DBBB-7146-4611-9DD4-38516684579D}"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Across Grades</a:t>
            </a:r>
            <a:endParaRPr b="1" lang="en-US" sz="2800" spc="-1" strike="noStrike">
              <a:solidFill>
                <a:srgbClr val="17375e"/>
              </a:solidFill>
              <a:latin typeface="Century Gothic"/>
            </a:endParaRPr>
          </a:p>
        </p:txBody>
      </p:sp>
      <p:sp>
        <p:nvSpPr>
          <p:cNvPr id="1634"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herence is an important design element of the standards.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he Standards are not so much built from topics as they are woven out of progressions.”</a:t>
            </a:r>
            <a:endParaRPr b="0" lang="en-US" sz="24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1200" spc="-1" strike="noStrike">
                <a:solidFill>
                  <a:srgbClr val="262626"/>
                </a:solidFill>
                <a:latin typeface="Calibri"/>
              </a:rPr>
              <a:t>Structure is the Standards, Publishers’ Criteria for Mathematics, Appendix</a:t>
            </a:r>
            <a:endParaRPr b="0" lang="en-US" sz="12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Focus</a:t>
            </a:r>
            <a:r>
              <a:rPr b="1" lang="en-US" sz="6000" spc="-1" strike="noStrike">
                <a:solidFill>
                  <a:srgbClr val="17375e"/>
                </a:solidFill>
                <a:latin typeface="Century Gothic"/>
              </a:rPr>
              <a:t> on the Major Work of the Grade</a:t>
            </a:r>
            <a:endParaRPr b="1" lang="en-US" sz="6000" spc="-1" strike="noStrike">
              <a:solidFill>
                <a:srgbClr val="17375e"/>
              </a:solidFill>
              <a:latin typeface="Century Gothic"/>
            </a:endParaRPr>
          </a:p>
        </p:txBody>
      </p:sp>
      <p:sp>
        <p:nvSpPr>
          <p:cNvPr id="1597"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wo levels of focus</a:t>
            </a:r>
            <a:r>
              <a:rPr b="0" lang="en-US" sz="2400" spc="-1" strike="noStrike">
                <a:solidFill>
                  <a:srgbClr val="ff0000"/>
                </a:solidFill>
                <a:latin typeface="Calibri"/>
              </a:rPr>
              <a:t>:</a:t>
            </a:r>
            <a:endParaRPr b="0" lang="en-US" sz="24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hat’s in/What’s out</a:t>
            </a:r>
            <a:endParaRPr b="0" lang="en-US" sz="20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he shape of the content that is in</a:t>
            </a: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Card Activity</a:t>
            </a:r>
            <a:endParaRPr b="1" lang="en-US" sz="2800" spc="-1" strike="noStrike">
              <a:solidFill>
                <a:srgbClr val="17375e"/>
              </a:solidFill>
              <a:latin typeface="Century Gothic"/>
            </a:endParaRPr>
          </a:p>
        </p:txBody>
      </p:sp>
      <p:sp>
        <p:nvSpPr>
          <p:cNvPr id="163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ctivity:  Place the standards of each color under the appropriate grade (K-8).  </a:t>
            </a:r>
            <a:endParaRPr b="0" lang="en-US" sz="24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etermine a “theme” for each color.</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No grade has two of the same color card.</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Some “themes” that have only a few cards might represent consecutive grades and some may no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Read each card in it’s entirety to help determine placemen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o not check your Standards until you and your colleagues agree on the final produc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iscuss horizontal and vertical observations with your partners.</a:t>
            </a:r>
            <a:endParaRPr b="0" lang="en-US" sz="2000" spc="-1" strike="noStrike">
              <a:solidFill>
                <a:srgbClr val="262626"/>
              </a:solidFill>
              <a:latin typeface="Calibri"/>
            </a:endParaRPr>
          </a:p>
          <a:p>
            <a:pPr lvl="1" marL="1085760" indent="-342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163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020C4-850D-463E-B4D8-ACFAB4645C35}"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a0606"/>
                </a:solidFill>
                <a:latin typeface="Century Gothic"/>
              </a:rPr>
              <a:t>Rigor: </a:t>
            </a:r>
            <a:r>
              <a:rPr b="1" lang="en-US" sz="5400" spc="-1" strike="noStrike">
                <a:solidFill>
                  <a:srgbClr val="153e27"/>
                </a:solidFill>
                <a:latin typeface="Century Gothic"/>
              </a:rPr>
              <a:t>Illustrations of Conceptual Understanding, Fluency, and Application</a:t>
            </a:r>
            <a:endParaRPr b="1" lang="en-US" sz="5400" spc="-1" strike="noStrike">
              <a:solidFill>
                <a:srgbClr val="17375e"/>
              </a:solidFill>
              <a:latin typeface="Century Gothic"/>
            </a:endParaRPr>
          </a:p>
        </p:txBody>
      </p:sp>
      <p:sp>
        <p:nvSpPr>
          <p:cNvPr id="1639"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ere rigor does not mean “hard problem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 balance of three fundamental components that result in deep mathematical understand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must be variety in what students are asked to produce.</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requently Asked Questions</a:t>
            </a:r>
            <a:endParaRPr b="1" lang="en-US" sz="2800" spc="-1" strike="noStrike">
              <a:solidFill>
                <a:srgbClr val="17375e"/>
              </a:solidFill>
              <a:latin typeface="Century Gothic"/>
            </a:endParaRPr>
          </a:p>
        </p:txBody>
      </p:sp>
      <p:sp>
        <p:nvSpPr>
          <p:cNvPr id="1641"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we assess fluency other than giving a timed test?</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s it really possible to assess conceptual understanding?  What does it look like?</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ren’t the Common Core State Standards for Math all about application and meaningful task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igor</a:t>
            </a:r>
            <a:endParaRPr b="1" lang="en-US" sz="2800" spc="-1" strike="noStrike">
              <a:solidFill>
                <a:srgbClr val="17375e"/>
              </a:solidFill>
              <a:latin typeface="Century Gothic"/>
            </a:endParaRPr>
          </a:p>
        </p:txBody>
      </p:sp>
      <p:sp>
        <p:nvSpPr>
          <p:cNvPr id="16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nceptual Understanding:</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NF.1    </a:t>
            </a:r>
            <a:r>
              <a:rPr b="1" lang="en-US" sz="2000" spc="-1" strike="noStrike">
                <a:solidFill>
                  <a:srgbClr val="262626"/>
                </a:solidFill>
                <a:latin typeface="Calibri"/>
              </a:rPr>
              <a:t>Understand</a:t>
            </a:r>
            <a:r>
              <a:rPr b="0" lang="en-US" sz="2000" spc="-1" strike="noStrike">
                <a:solidFill>
                  <a:srgbClr val="262626"/>
                </a:solidFill>
                <a:latin typeface="Calibri"/>
              </a:rPr>
              <a:t> a fraction 1/</a:t>
            </a:r>
            <a:r>
              <a:rPr b="0" i="1" lang="en-US" sz="2000" spc="-1" strike="noStrike">
                <a:solidFill>
                  <a:srgbClr val="262626"/>
                </a:solidFill>
                <a:latin typeface="Calibri"/>
              </a:rPr>
              <a:t>b</a:t>
            </a:r>
            <a:r>
              <a:rPr b="0" lang="en-US" sz="2000" spc="-1" strike="noStrike">
                <a:solidFill>
                  <a:srgbClr val="262626"/>
                </a:solidFill>
                <a:latin typeface="Calibri"/>
              </a:rPr>
              <a:t> as the quantity formed by 1 part when a whole is partitioned into b equal parts;  understand a fraction </a:t>
            </a:r>
            <a:r>
              <a:rPr b="0" i="1" lang="en-US" sz="2000" spc="-1" strike="noStrike">
                <a:solidFill>
                  <a:srgbClr val="262626"/>
                </a:solidFill>
                <a:latin typeface="Calibri"/>
              </a:rPr>
              <a:t>a/b</a:t>
            </a:r>
            <a:r>
              <a:rPr b="0" lang="en-US" sz="2000" spc="-1" strike="noStrike">
                <a:solidFill>
                  <a:srgbClr val="262626"/>
                </a:solidFill>
                <a:latin typeface="Calibri"/>
              </a:rPr>
              <a:t> as the quantity formed by </a:t>
            </a:r>
            <a:r>
              <a:rPr b="0" i="1" lang="en-US" sz="2000" spc="-1" strike="noStrike">
                <a:solidFill>
                  <a:srgbClr val="262626"/>
                </a:solidFill>
                <a:latin typeface="Calibri"/>
              </a:rPr>
              <a:t>a</a:t>
            </a:r>
            <a:r>
              <a:rPr b="0" lang="en-US" sz="2000" spc="-1" strike="noStrike">
                <a:solidFill>
                  <a:srgbClr val="262626"/>
                </a:solidFill>
                <a:latin typeface="Calibri"/>
              </a:rPr>
              <a:t> parts of size 1/</a:t>
            </a:r>
            <a:r>
              <a:rPr b="0" i="1" lang="en-US" sz="2000" spc="-1" strike="noStrike">
                <a:solidFill>
                  <a:srgbClr val="262626"/>
                </a:solidFill>
                <a:latin typeface="Calibri"/>
              </a:rPr>
              <a:t>b</a:t>
            </a:r>
            <a:r>
              <a:rPr b="0" lang="en-US" sz="2000" spc="-1" strike="noStrike">
                <a:solidFill>
                  <a:srgbClr val="262626"/>
                </a:solidFill>
                <a:latin typeface="Calibri"/>
              </a:rPr>
              <a:t>.</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ocedural Skill and Fluency:</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5.NBT.5  </a:t>
            </a:r>
            <a:r>
              <a:rPr b="1" lang="en-US" sz="2000" spc="-1" strike="noStrike">
                <a:solidFill>
                  <a:srgbClr val="262626"/>
                </a:solidFill>
                <a:latin typeface="Calibri"/>
              </a:rPr>
              <a:t>Fluently</a:t>
            </a:r>
            <a:r>
              <a:rPr b="0" lang="en-US" sz="2000" spc="-1" strike="noStrike">
                <a:solidFill>
                  <a:srgbClr val="262626"/>
                </a:solidFill>
                <a:latin typeface="Calibri"/>
              </a:rPr>
              <a:t> multiply multi-digit whole numbers using the standard algorith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pplication:</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7.NS.3  </a:t>
            </a:r>
            <a:r>
              <a:rPr b="1" lang="en-US" sz="2000" spc="-1" strike="noStrike">
                <a:solidFill>
                  <a:srgbClr val="262626"/>
                </a:solidFill>
                <a:latin typeface="Calibri"/>
              </a:rPr>
              <a:t>Solve real-world and mathematical problems </a:t>
            </a:r>
            <a:r>
              <a:rPr b="0" lang="en-US" sz="2000" spc="-1" strike="noStrike">
                <a:solidFill>
                  <a:srgbClr val="262626"/>
                </a:solidFill>
                <a:latin typeface="Calibri"/>
              </a:rPr>
              <a:t>involving the four operations with rational numbers.</a:t>
            </a:r>
            <a:endParaRPr b="0" lang="en-US" sz="2000" spc="-1" strike="noStrike">
              <a:solidFill>
                <a:srgbClr val="262626"/>
              </a:solidFill>
              <a:latin typeface="Calibri"/>
            </a:endParaRPr>
          </a:p>
        </p:txBody>
      </p:sp>
      <p:sp>
        <p:nvSpPr>
          <p:cNvPr id="16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0C476-B039-4C55-8023-59C884CA84AA}"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Problems Activity</a:t>
            </a:r>
            <a:endParaRPr b="1" lang="en-US" sz="2800" spc="-1" strike="noStrike">
              <a:solidFill>
                <a:srgbClr val="17375e"/>
              </a:solidFill>
              <a:latin typeface="Century Gothic"/>
            </a:endParaRPr>
          </a:p>
        </p:txBody>
      </p:sp>
      <p:sp>
        <p:nvSpPr>
          <p:cNvPr id="164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k on a few problems from each aspect of rigor.</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prepared to discuss something you observed  from one of the problems you tried.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assessing (with tests, HW problems, exit tickets) all 3 aspects of rigor affect student learn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does it look like when we are asking students to work on procedural skill and fluency, conceptual understanding, or application?</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648"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649"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8" name="Content Placeholder 4" descr="Kindergarten.PNG"/>
          <p:cNvPicPr/>
          <p:nvPr/>
        </p:nvPicPr>
        <p:blipFill>
          <a:blip r:embed="rId1"/>
          <a:stretch/>
        </p:blipFill>
        <p:spPr>
          <a:xfrm>
            <a:off x="1752480" y="685800"/>
            <a:ext cx="5467320" cy="536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9" name="Picture 3" descr=""/>
          <p:cNvPicPr/>
          <p:nvPr/>
        </p:nvPicPr>
        <p:blipFill>
          <a:blip r:embed="rId1"/>
          <a:stretch/>
        </p:blipFill>
        <p:spPr>
          <a:xfrm>
            <a:off x="457200" y="914400"/>
            <a:ext cx="8167680" cy="462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0" name="Picture 3" descr="Grade 1.PNG"/>
          <p:cNvPicPr/>
          <p:nvPr/>
        </p:nvPicPr>
        <p:blipFill>
          <a:blip r:embed="rId1"/>
          <a:stretch/>
        </p:blipFill>
        <p:spPr>
          <a:xfrm>
            <a:off x="1554120" y="304920"/>
            <a:ext cx="5989680" cy="618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1" name="Picture 3" descr="CEC Grade 1.PNG"/>
          <p:cNvPicPr/>
          <p:nvPr/>
        </p:nvPicPr>
        <p:blipFill>
          <a:blip r:embed="rId1"/>
          <a:stretch/>
        </p:blipFill>
        <p:spPr>
          <a:xfrm>
            <a:off x="666720" y="843120"/>
            <a:ext cx="7810560" cy="51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2" name="Picture 3" descr="Grade 2.PNG"/>
          <p:cNvPicPr/>
          <p:nvPr/>
        </p:nvPicPr>
        <p:blipFill>
          <a:blip r:embed="rId1"/>
          <a:stretch/>
        </p:blipFill>
        <p:spPr>
          <a:xfrm>
            <a:off x="1376280" y="0"/>
            <a:ext cx="6396120" cy="632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1" descr="CEC Grade 2.PNG"/>
          <p:cNvPicPr/>
          <p:nvPr/>
        </p:nvPicPr>
        <p:blipFill>
          <a:blip r:embed="rId1"/>
          <a:stretch/>
        </p:blipFill>
        <p:spPr>
          <a:xfrm>
            <a:off x="604800" y="933480"/>
            <a:ext cx="7934400" cy="49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00:04:20Z</dcterms:created>
  <dc:creator>HP USER</dc:creator>
  <dc:description/>
  <dc:language>en-US</dc:language>
  <cp:lastModifiedBy>Pascale Joseph</cp:lastModifiedBy>
  <cp:lastPrinted>2012-06-25T22:07:29Z</cp:lastPrinted>
  <dcterms:modified xsi:type="dcterms:W3CDTF">2020-01-23T20:10:55Z</dcterms:modified>
  <cp:revision>42</cp:revision>
  <dc:subject/>
  <dc:title>Deep Engagement with the Shifts of the Common Core State Standards  Mathematics</dc:title>
</cp:coreProperties>
</file>